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2.xml.rels" ContentType="application/vnd.openxmlformats-package.relationships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7.xml" ContentType="application/vnd.openxmlformats-officedocument.presentationml.notesSlide+xml"/>
  <Override PartName="/ppt/_rels/presentation.xml.rels" ContentType="application/vnd.openxmlformats-package.relationships+xml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1.jpeg" ContentType="image/jpeg"/>
  <Override PartName="/ppt/media/image7.png" ContentType="image/png"/>
  <Override PartName="/ppt/media/image12.png" ContentType="image/png"/>
  <Override PartName="/ppt/media/image13.jpeg" ContentType="image/jpeg"/>
  <Override PartName="/ppt/media/image10.jpeg" ContentType="image/jpeg"/>
  <Override PartName="/ppt/media/image5.png" ContentType="image/png"/>
  <Override PartName="/ppt/media/image8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2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64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93.xml.rels" ContentType="application/vnd.openxmlformats-package.relationships+xml"/>
  <Override PartName="/ppt/slides/_rels/slide75.xml.rels" ContentType="application/vnd.openxmlformats-package.relationships+xml"/>
  <Override PartName="/ppt/slides/_rels/slide105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104.xml" ContentType="application/vnd.openxmlformats-officedocument.presentationml.slide+xml"/>
  <Override PartName="/ppt/slides/slide9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85.xml" ContentType="application/vnd.openxmlformats-officedocument.presentationml.slide+xml"/>
  <Override PartName="/ppt/slides/slide89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  <p:sldId id="289" r:id="rId48"/>
    <p:sldId id="290" r:id="rId49"/>
    <p:sldId id="291" r:id="rId50"/>
    <p:sldId id="292" r:id="rId51"/>
    <p:sldId id="293" r:id="rId52"/>
    <p:sldId id="294" r:id="rId53"/>
    <p:sldId id="295" r:id="rId54"/>
    <p:sldId id="296" r:id="rId55"/>
    <p:sldId id="297" r:id="rId56"/>
    <p:sldId id="298" r:id="rId57"/>
    <p:sldId id="299" r:id="rId58"/>
    <p:sldId id="300" r:id="rId59"/>
    <p:sldId id="301" r:id="rId60"/>
    <p:sldId id="302" r:id="rId61"/>
    <p:sldId id="303" r:id="rId62"/>
    <p:sldId id="304" r:id="rId63"/>
    <p:sldId id="305" r:id="rId64"/>
    <p:sldId id="306" r:id="rId65"/>
    <p:sldId id="307" r:id="rId66"/>
    <p:sldId id="308" r:id="rId67"/>
    <p:sldId id="309" r:id="rId68"/>
    <p:sldId id="310" r:id="rId69"/>
    <p:sldId id="311" r:id="rId70"/>
    <p:sldId id="312" r:id="rId71"/>
    <p:sldId id="313" r:id="rId72"/>
    <p:sldId id="314" r:id="rId73"/>
    <p:sldId id="315" r:id="rId74"/>
    <p:sldId id="316" r:id="rId75"/>
    <p:sldId id="317" r:id="rId76"/>
    <p:sldId id="318" r:id="rId77"/>
    <p:sldId id="319" r:id="rId78"/>
    <p:sldId id="320" r:id="rId79"/>
    <p:sldId id="321" r:id="rId80"/>
    <p:sldId id="322" r:id="rId81"/>
    <p:sldId id="323" r:id="rId82"/>
    <p:sldId id="324" r:id="rId83"/>
    <p:sldId id="325" r:id="rId84"/>
    <p:sldId id="326" r:id="rId85"/>
    <p:sldId id="327" r:id="rId86"/>
    <p:sldId id="328" r:id="rId87"/>
    <p:sldId id="329" r:id="rId88"/>
    <p:sldId id="330" r:id="rId89"/>
    <p:sldId id="331" r:id="rId90"/>
    <p:sldId id="332" r:id="rId91"/>
    <p:sldId id="333" r:id="rId92"/>
    <p:sldId id="334" r:id="rId93"/>
    <p:sldId id="335" r:id="rId94"/>
    <p:sldId id="336" r:id="rId95"/>
    <p:sldId id="337" r:id="rId96"/>
    <p:sldId id="338" r:id="rId97"/>
    <p:sldId id="339" r:id="rId98"/>
    <p:sldId id="340" r:id="rId99"/>
    <p:sldId id="341" r:id="rId100"/>
    <p:sldId id="342" r:id="rId101"/>
    <p:sldId id="343" r:id="rId102"/>
    <p:sldId id="344" r:id="rId103"/>
    <p:sldId id="345" r:id="rId104"/>
    <p:sldId id="346" r:id="rId105"/>
    <p:sldId id="347" r:id="rId106"/>
    <p:sldId id="348" r:id="rId107"/>
    <p:sldId id="349" r:id="rId108"/>
    <p:sldId id="350" r:id="rId109"/>
    <p:sldId id="351" r:id="rId110"/>
    <p:sldId id="352" r:id="rId111"/>
    <p:sldId id="353" r:id="rId112"/>
    <p:sldId id="354" r:id="rId113"/>
    <p:sldId id="355" r:id="rId114"/>
    <p:sldId id="356" r:id="rId115"/>
    <p:sldId id="357" r:id="rId116"/>
    <p:sldId id="358" r:id="rId117"/>
    <p:sldId id="359" r:id="rId118"/>
    <p:sldId id="360" r:id="rId1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slide" Target="slides/slide34.xml"/><Relationship Id="rId49" Type="http://schemas.openxmlformats.org/officeDocument/2006/relationships/slide" Target="slides/slide35.xml"/><Relationship Id="rId50" Type="http://schemas.openxmlformats.org/officeDocument/2006/relationships/slide" Target="slides/slide36.xml"/><Relationship Id="rId51" Type="http://schemas.openxmlformats.org/officeDocument/2006/relationships/slide" Target="slides/slide37.xml"/><Relationship Id="rId52" Type="http://schemas.openxmlformats.org/officeDocument/2006/relationships/slide" Target="slides/slide38.xml"/><Relationship Id="rId53" Type="http://schemas.openxmlformats.org/officeDocument/2006/relationships/slide" Target="slides/slide39.xml"/><Relationship Id="rId54" Type="http://schemas.openxmlformats.org/officeDocument/2006/relationships/slide" Target="slides/slide40.xml"/><Relationship Id="rId55" Type="http://schemas.openxmlformats.org/officeDocument/2006/relationships/slide" Target="slides/slide41.xml"/><Relationship Id="rId56" Type="http://schemas.openxmlformats.org/officeDocument/2006/relationships/slide" Target="slides/slide42.xml"/><Relationship Id="rId57" Type="http://schemas.openxmlformats.org/officeDocument/2006/relationships/slide" Target="slides/slide43.xml"/><Relationship Id="rId58" Type="http://schemas.openxmlformats.org/officeDocument/2006/relationships/slide" Target="slides/slide44.xml"/><Relationship Id="rId59" Type="http://schemas.openxmlformats.org/officeDocument/2006/relationships/slide" Target="slides/slide45.xml"/><Relationship Id="rId60" Type="http://schemas.openxmlformats.org/officeDocument/2006/relationships/slide" Target="slides/slide46.xml"/><Relationship Id="rId61" Type="http://schemas.openxmlformats.org/officeDocument/2006/relationships/slide" Target="slides/slide47.xml"/><Relationship Id="rId62" Type="http://schemas.openxmlformats.org/officeDocument/2006/relationships/slide" Target="slides/slide48.xml"/><Relationship Id="rId63" Type="http://schemas.openxmlformats.org/officeDocument/2006/relationships/slide" Target="slides/slide49.xml"/><Relationship Id="rId64" Type="http://schemas.openxmlformats.org/officeDocument/2006/relationships/slide" Target="slides/slide50.xml"/><Relationship Id="rId65" Type="http://schemas.openxmlformats.org/officeDocument/2006/relationships/slide" Target="slides/slide51.xml"/><Relationship Id="rId66" Type="http://schemas.openxmlformats.org/officeDocument/2006/relationships/slide" Target="slides/slide52.xml"/><Relationship Id="rId67" Type="http://schemas.openxmlformats.org/officeDocument/2006/relationships/slide" Target="slides/slide53.xml"/><Relationship Id="rId68" Type="http://schemas.openxmlformats.org/officeDocument/2006/relationships/slide" Target="slides/slide54.xml"/><Relationship Id="rId69" Type="http://schemas.openxmlformats.org/officeDocument/2006/relationships/slide" Target="slides/slide55.xml"/><Relationship Id="rId70" Type="http://schemas.openxmlformats.org/officeDocument/2006/relationships/slide" Target="slides/slide56.xml"/><Relationship Id="rId71" Type="http://schemas.openxmlformats.org/officeDocument/2006/relationships/slide" Target="slides/slide57.xml"/><Relationship Id="rId72" Type="http://schemas.openxmlformats.org/officeDocument/2006/relationships/slide" Target="slides/slide58.xml"/><Relationship Id="rId73" Type="http://schemas.openxmlformats.org/officeDocument/2006/relationships/slide" Target="slides/slide59.xml"/><Relationship Id="rId74" Type="http://schemas.openxmlformats.org/officeDocument/2006/relationships/slide" Target="slides/slide60.xml"/><Relationship Id="rId75" Type="http://schemas.openxmlformats.org/officeDocument/2006/relationships/slide" Target="slides/slide61.xml"/><Relationship Id="rId76" Type="http://schemas.openxmlformats.org/officeDocument/2006/relationships/slide" Target="slides/slide62.xml"/><Relationship Id="rId77" Type="http://schemas.openxmlformats.org/officeDocument/2006/relationships/slide" Target="slides/slide63.xml"/><Relationship Id="rId78" Type="http://schemas.openxmlformats.org/officeDocument/2006/relationships/slide" Target="slides/slide64.xml"/><Relationship Id="rId79" Type="http://schemas.openxmlformats.org/officeDocument/2006/relationships/slide" Target="slides/slide65.xml"/><Relationship Id="rId80" Type="http://schemas.openxmlformats.org/officeDocument/2006/relationships/slide" Target="slides/slide66.xml"/><Relationship Id="rId81" Type="http://schemas.openxmlformats.org/officeDocument/2006/relationships/slide" Target="slides/slide67.xml"/><Relationship Id="rId82" Type="http://schemas.openxmlformats.org/officeDocument/2006/relationships/slide" Target="slides/slide68.xml"/><Relationship Id="rId83" Type="http://schemas.openxmlformats.org/officeDocument/2006/relationships/slide" Target="slides/slide69.xml"/><Relationship Id="rId84" Type="http://schemas.openxmlformats.org/officeDocument/2006/relationships/slide" Target="slides/slide70.xml"/><Relationship Id="rId85" Type="http://schemas.openxmlformats.org/officeDocument/2006/relationships/slide" Target="slides/slide71.xml"/><Relationship Id="rId86" Type="http://schemas.openxmlformats.org/officeDocument/2006/relationships/slide" Target="slides/slide72.xml"/><Relationship Id="rId87" Type="http://schemas.openxmlformats.org/officeDocument/2006/relationships/slide" Target="slides/slide73.xml"/><Relationship Id="rId88" Type="http://schemas.openxmlformats.org/officeDocument/2006/relationships/slide" Target="slides/slide74.xml"/><Relationship Id="rId89" Type="http://schemas.openxmlformats.org/officeDocument/2006/relationships/slide" Target="slides/slide75.xml"/><Relationship Id="rId90" Type="http://schemas.openxmlformats.org/officeDocument/2006/relationships/slide" Target="slides/slide76.xml"/><Relationship Id="rId91" Type="http://schemas.openxmlformats.org/officeDocument/2006/relationships/slide" Target="slides/slide77.xml"/><Relationship Id="rId92" Type="http://schemas.openxmlformats.org/officeDocument/2006/relationships/slide" Target="slides/slide78.xml"/><Relationship Id="rId93" Type="http://schemas.openxmlformats.org/officeDocument/2006/relationships/slide" Target="slides/slide79.xml"/><Relationship Id="rId94" Type="http://schemas.openxmlformats.org/officeDocument/2006/relationships/slide" Target="slides/slide80.xml"/><Relationship Id="rId95" Type="http://schemas.openxmlformats.org/officeDocument/2006/relationships/slide" Target="slides/slide81.xml"/><Relationship Id="rId96" Type="http://schemas.openxmlformats.org/officeDocument/2006/relationships/slide" Target="slides/slide82.xml"/><Relationship Id="rId97" Type="http://schemas.openxmlformats.org/officeDocument/2006/relationships/slide" Target="slides/slide83.xml"/><Relationship Id="rId98" Type="http://schemas.openxmlformats.org/officeDocument/2006/relationships/slide" Target="slides/slide84.xml"/><Relationship Id="rId99" Type="http://schemas.openxmlformats.org/officeDocument/2006/relationships/slide" Target="slides/slide85.xml"/><Relationship Id="rId100" Type="http://schemas.openxmlformats.org/officeDocument/2006/relationships/slide" Target="slides/slide86.xml"/><Relationship Id="rId101" Type="http://schemas.openxmlformats.org/officeDocument/2006/relationships/slide" Target="slides/slide87.xml"/><Relationship Id="rId102" Type="http://schemas.openxmlformats.org/officeDocument/2006/relationships/slide" Target="slides/slide88.xml"/><Relationship Id="rId103" Type="http://schemas.openxmlformats.org/officeDocument/2006/relationships/slide" Target="slides/slide89.xml"/><Relationship Id="rId104" Type="http://schemas.openxmlformats.org/officeDocument/2006/relationships/slide" Target="slides/slide90.xml"/><Relationship Id="rId105" Type="http://schemas.openxmlformats.org/officeDocument/2006/relationships/slide" Target="slides/slide91.xml"/><Relationship Id="rId106" Type="http://schemas.openxmlformats.org/officeDocument/2006/relationships/slide" Target="slides/slide92.xml"/><Relationship Id="rId107" Type="http://schemas.openxmlformats.org/officeDocument/2006/relationships/slide" Target="slides/slide93.xml"/><Relationship Id="rId108" Type="http://schemas.openxmlformats.org/officeDocument/2006/relationships/slide" Target="slides/slide94.xml"/><Relationship Id="rId109" Type="http://schemas.openxmlformats.org/officeDocument/2006/relationships/slide" Target="slides/slide95.xml"/><Relationship Id="rId110" Type="http://schemas.openxmlformats.org/officeDocument/2006/relationships/slide" Target="slides/slide96.xml"/><Relationship Id="rId111" Type="http://schemas.openxmlformats.org/officeDocument/2006/relationships/slide" Target="slides/slide97.xml"/><Relationship Id="rId112" Type="http://schemas.openxmlformats.org/officeDocument/2006/relationships/slide" Target="slides/slide98.xml"/><Relationship Id="rId113" Type="http://schemas.openxmlformats.org/officeDocument/2006/relationships/slide" Target="slides/slide99.xml"/><Relationship Id="rId114" Type="http://schemas.openxmlformats.org/officeDocument/2006/relationships/slide" Target="slides/slide100.xml"/><Relationship Id="rId115" Type="http://schemas.openxmlformats.org/officeDocument/2006/relationships/slide" Target="slides/slide101.xml"/><Relationship Id="rId116" Type="http://schemas.openxmlformats.org/officeDocument/2006/relationships/slide" Target="slides/slide102.xml"/><Relationship Id="rId117" Type="http://schemas.openxmlformats.org/officeDocument/2006/relationships/slide" Target="slides/slide103.xml"/><Relationship Id="rId118" Type="http://schemas.openxmlformats.org/officeDocument/2006/relationships/slide" Target="slides/slide104.xml"/><Relationship Id="rId119" Type="http://schemas.openxmlformats.org/officeDocument/2006/relationships/slide" Target="slides/slide105.xml"/><Relationship Id="rId1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5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dt" idx="3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 type="ftr" idx="3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PlaceHolder 6"/>
          <p:cNvSpPr>
            <a:spLocks noGrp="1"/>
          </p:cNvSpPr>
          <p:nvPr>
            <p:ph type="sldNum" idx="3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8FFB5-972F-4673-9870-279EF680871D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92622-4C59-408A-A28B-E0E824E4D5E7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B9869-2029-4125-A0C3-9F8F7EE59A07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8625F-F3E7-48D0-992B-67B9EF092A9D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0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急性上呼吸道感染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Acute Upper Respiratory Infection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，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URI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，简称上感）是小儿时期最常见的疾病，是病原体侵犯喉以上呼吸道系统的急性炎症的统称，包括以急性咽炎为主的普通感冒，及急性鼻窦炎、扁桃体咽炎、喉炎、会厌炎等。当炎症仅局限在某一部位（或器官）时，则称该部位炎症，如急性咽炎、急性扁桃体炎、急性鼻炎等。当上感由流行性感冒病毒引起，并在某一地区人群中发生流行时，则称为流行性感冒。上感的病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90%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以上为病毒，细菌仅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0%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左右，不同年龄小儿上感有不同的特点，并有两种特殊类型的上感，咽结合膜热和疱疹性咽炎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一、病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引起上感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90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％以上是病毒，主要有呼吸道合胞病毒、流感病毒、副流感病毒、腺病毒、鼻病毒和柯萨奇病毒等。病毒感染后也可继发细菌感染，常见为溶血性链球菌、肺炎链球菌等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①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疱疹性咽峡炎（</a:t>
            </a:r>
            <a:r>
              <a:rPr b="0" lang="en-CA" sz="1200" spc="-1" strike="noStrike">
                <a:solidFill>
                  <a:srgbClr val="000000"/>
                </a:solidFill>
                <a:latin typeface="Calibri"/>
                <a:ea typeface="宋体"/>
              </a:rPr>
              <a:t>herpangina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）：由柯萨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A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组病毒引起，好发于夏秋季。表现为急起高热、咽痛、流涎、厌食、呕吐等，体检可见咽充血，咽腭弓、悬雍垂、软腭等处有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mm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大小的疱疹，周围有红晕，疱疹破溃后形成小溃疡。患儿因疼痛而影响吞咽和进食。病程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周左右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①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疱疹性咽峡炎（</a:t>
            </a:r>
            <a:r>
              <a:rPr b="0" lang="en-CA" sz="1200" spc="-1" strike="noStrike">
                <a:solidFill>
                  <a:srgbClr val="000000"/>
                </a:solidFill>
                <a:latin typeface="Calibri"/>
                <a:ea typeface="宋体"/>
              </a:rPr>
              <a:t>herpangina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）：由柯萨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A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组病毒引起，好发于夏秋季。表现为急起高热、咽痛、流涎、厌食、呕吐等，体检可见咽充血，咽腭弓、悬雍垂、软腭等处有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mm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大小的疱疹，周围有红晕，疱疹破溃后形成小溃疡。患儿因疼痛而影响吞咽和进食。病程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周左右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②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咽结合膜热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haryngo-conjunctival fever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）：由腺病毒引起，春夏季发病多，可在集体儿童机构中流行。临床以发热、咽炎、结合膜炎为主要特征。表现为高热、咽痛、一侧或双侧眼结合膜炎，眼部刺痛、流泪、结膜充血。颈部、耳后淋巴结肿大，有时伴胃肠道症状。病程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周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知识卡片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流行性感冒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流行性感冒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influenza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简称流感，是由流感病毒引起，可致大流行。常突然发生，蔓延迅速，发病率高，流行期短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流行性感冒的早期症状类似感冒的症状，包括高热、头痛、身体虚弱、全身肌肉酸痛，部分患者流清涕、鼻塞、咽痛、眼结膜充血等。特点是全身症状重而呼吸道局部症状较轻。预防流行性感冒的最有效方法包括：充足睡眠、均衡饮食、适量运动及保持空气流通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并发症  婴幼儿可继发中耳炎、咽后壁脓肿、支气管炎、肺炎和败血症等，年长儿若患链球菌性上感可引起急性肾炎、风湿热等疾病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三）实验室及其他检查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病毒感染者白细胞计数正常或偏低，病毒分离和血清反应可明确病原体；细菌感染者白细胞增高，中性粒细胞增高，咽拭子培养可有病原菌生长；链球菌引起者血中抗链球菌溶血素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O”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ASO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）滴度可增高。胸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X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线检查无异常改变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治疗要点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治疗原则以支持疗法和对症治疗为主，适当选用抗病毒药物，如三氮唑核苷（病毒唑），每日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0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5mg/kg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，分次肌注或静滴，疗程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天。继发细菌感染或发生并发症者应用抗生素；如确诊为溶血性链球菌感染或既往有肾炎、风湿热病史者，应用青霉素，疗程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0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天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护理诊断／合作性问题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舒适的改变  与咽痛、鼻塞有关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体温过高  与上呼吸道感染有关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潜在并发症：惊厥  与高热有关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降低体温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①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密切观察体温变化，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小时测一次体温，体温超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8.5℃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时给予物理降温，如头部冷敷、腋下及腹股沟处置冰袋、温水或乙醇擦浴、冷盐水灌肠等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②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遵医嘱给予退热剂，口服对乙酰氨基酚或布洛芬。复方柴胡注射液肌内注射等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③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保证患儿摄入充足的水分，鼓励患儿多饮水，给予易消化和富含维生素的清淡饮食，必要时静脉补充营养和水分；及时更换汗湿的衣服并适度保暖，避免因受凉而使症状加重或反复；保持口腔及皮肤清洁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观察病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①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密切观察病情变化，警惕高热惊厥的发生。当体温超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8.5℃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时应采取降温措施，并保持室内安静，减少刺激。密切观察有无惊厥先兆，尤其是对有高热惊厥史的患儿更应注意，若高热患儿出现兴奋、烦躁、惊跳等惊厥先兆，应立即通知医生，按医嘱给予地西泮、苯巴比妥、水合氯醛等镇静药并同时采取降温措施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②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如患儿病情加重，体温持续不退，应考虑有无并发症的可能，需及时报告和处理。如病程中出现皮疹，应区别是否为某种传染病早期征象，以便及时采取措施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健康教育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指导家长掌握上呼吸道感染的预防知识和护理要点，懂得相应的应对技巧，如加强体格锻炼多进行户外活动，以增强机体抵抗力，但在呼吸道疾病流行期间，避免去人多拥挤的公共场所；气候变化时及时添减衣服，避免过热或过冷。鼓励母乳喂养，及时添加辅食，积极防治各种慢性疾病，如佝偻病、营养不良及贫血等，按时预防接种。在集体儿童机构中，如有上感流行趋势，应早期隔离患儿，室内用食醋熏蒸法消毒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食醋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0ml/m²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加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倍，加热熏蒸到全部气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D6804-FAE3-44B0-A79C-3968ACA06194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0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呼吸系统以环状软骨为界，划分为上下呼吸道，上呼吸道分为鼻、鼻窦、咽、咽鼓管、会厌及喉；下呼吸道分为气管、支气管、毛细支气管、肺泡管及肺泡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按病理解剖部位可分为支气管肺炎、大叶性肺炎，间质性肺炎；按病因可分为感染性和非感染性肺炎。感染性肺炎包括：病毒性、细菌性、支原体性、衣原体性、真菌性、原虫性肺炎，非感染性包括吸入性、坠积性肺炎等。如按肺炎的发病环境可分为社区获得性肺炎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community accquired pneumonia, CAP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）和院内获得性肺炎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hospital accquired pneumonia, HAP 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CAP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指患儿在医院外或住院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8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小时内发生的肺炎，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HAP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是住院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8h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后发生的肺炎。按病程可分为急性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amp;lt;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月）、慢性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amp;gt;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月）和迁延性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月）肺炎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按病理解剖部位可分为支气管肺炎、大叶性肺炎，间质性肺炎；按病因可分为感染性和非感染性肺炎。感染性肺炎包括：病毒性、细菌性、支原体性、衣原体性、真菌性、原虫性肺炎，非感染性包括吸入性、坠积性肺炎等。如按肺炎的发病环境可分为社区获得性肺炎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community accquired pneumonia, CAP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）和院内获得性肺炎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hospital accquired pneumonia, HAP 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CAP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指患儿在医院外或住院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8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小时内发生的肺炎，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HAP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是住院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8h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后发生的肺炎。按病程可分为急性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amp;lt;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月）、慢性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amp;gt;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月）和迁延性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月）肺炎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按病理解剖部位可分为支气管肺炎、大叶性肺炎，间质性肺炎；按病因可分为感染性和非感染性肺炎。感染性肺炎包括：病毒性、细菌性、支原体性、衣原体性、真菌性、原虫性肺炎，非感染性包括吸入性、坠积性肺炎等。如按肺炎的发病环境可分为社区获得性肺炎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community accquired pneumonia, CAP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）和院内获得性肺炎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hospital accquired pneumonia, HAP 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CAP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指患儿在医院外或住院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8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小时内发生的肺炎，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HAP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是住院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8h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后发生的肺炎。按病程可分为急性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amp;lt;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月）、慢性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amp;gt;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月）和迁延性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月）肺炎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按病理解剖部位可分为支气管肺炎、大叶性肺炎，间质性肺炎；按病因可分为感染性和非感染性肺炎。感染性肺炎包括：病毒性、细菌性、支原体性、衣原体性、真菌性、原虫性肺炎，非感染性包括吸入性、坠积性肺炎等。如按肺炎的发病环境可分为社区获得性肺炎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community accquired pneumonia, CAP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）和院内获得性肺炎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hospital accquired pneumonia, HAP 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CAP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指患儿在医院外或住院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8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小时内发生的肺炎，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HAP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是住院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8h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后发生的肺炎。按病程可分为急性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amp;lt;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月）、慢性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amp;gt;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月）和迁延性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月）肺炎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小儿以急性支气管肺炎多见，一年四季发病，本节主要介绍支气管肺炎。小儿肺炎的病原最常见是病毒感染基础上继发细菌感染，主要表现为发热、咳嗽、气急、甚至发绀，及肺部细湿啰音等，轻型和重型肺炎有不同的临床特征，重症肺炎还可并发呼吸衰竭或其他系统功能的明显损害，不同病原体所致肺炎也有不同的特点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小儿以急性支气管肺炎多见，一年四季发病，本节主要介绍支气管肺炎。小儿肺炎的病原最常见是病毒感染基础上继发细菌感染，主要表现为发热、咳嗽、气急、甚至发绀，及肺部细湿啰音等，轻型和重型肺炎有不同的临床特征，重症肺炎还可并发呼吸衰竭或其他系统功能的明显损害，不同病原体所致肺炎也有不同的特点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二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机体因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小儿下呼吸道器官的解剖生理特点及免疫特点，是小儿易发生肺炎的重要因素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年龄及营养状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岁以下小儿和营养不良小儿，免疫能力较低下，易受病原体侵袭发生肺炎，并且重型肺炎多，病死率亦高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疾病影响</a:t>
            </a:r>
            <a:br>
              <a:rPr sz="1200"/>
            </a:b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先天畸形（尤其是先天性心血管疾病）、重度佝偻病、脑发育不全、接受化疗、放疗、免疫抑制治疗的小儿或原发性免疫缺陷的小儿易患肺炎，并易致重型肺炎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居室条件差（如通风不良、拥挤或阴暗潮湿）、空气污浊（如吸烟、工厂化学气体的污染）及气候骤变所致的环境温度变化，使肺炎发病率增加。与病毒性肺炎患儿同室居住，可交叉感染，甚至引起在病房、托儿机构中小流行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二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机体因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小儿下呼吸道器官的解剖生理特点及免疫特点，是小儿易发生肺炎的重要因素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年龄及营养状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岁以下小儿和营养不良小儿，免疫能力较低下，易受病原体侵袭发生肺炎，并且重型肺炎多，病死率亦高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疾病影响</a:t>
            </a:r>
            <a:br>
              <a:rPr sz="1200"/>
            </a:b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先天畸形（尤其是先天性心血管疾病）、重度佝偻病、脑发育不全、接受化疗、放疗、免疫抑制治疗的小儿或原发性免疫缺陷的小儿易患肺炎，并易致重型肺炎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居室条件差（如通风不良、拥挤或阴暗潮湿）、空气污浊（如吸烟、工厂化学气体的污染）及气候骤变所致的环境温度变化，使肺炎发病率增加。与病毒性肺炎患儿同室居住，可交叉感染，甚至引起在病房、托儿机构中小流行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发病机制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病原体多由呼吸道入侵，也可经血行入肺，引起支气管、肺泡、肺间质炎症，支气管因黏膜水肿而管腔变窄，肺泡壁因充血水肿而增厚，肺泡腔内充满炎症渗出物，造成通气和换气功能障碍，导致低氧血症及高碳酸血症。为代偿缺氧，患儿呼吸与心率加快，出现鼻翼扇动和三凹征，严重时可产生呼吸衰竭。由于病原体作用，重症肺炎常伴有毒血症，导致不同程度的感染中毒症状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缺氧、二氧化碳潴留及毒血症可致机体代谢及器官功能障碍：①循环系统：缺氧使肺小动脉反射性收缩，肺循环压力增高，造成肺动脉高压；同时病原体和毒素侵袭心肌，引起中毒性心肌炎。肺动脉高压和中毒性心肌炎均可诱发心力衰竭；②中枢神经系统：缺氧和高碳酸血症使脑血管扩张、血流减慢、血管通透性增加，可致脑水肿和颅内压增高。病原体毒素作用亦可引起脑水肿；③消化系统：低氧血症和毒血症可引起胃黏膜糜烂、出血、上皮细胞坏死脱落等应激性反应，导致黏膜屏障功能破坏，使胃肠功能紊乱，严重者可引起中毒性肠麻痹和消化道出血；④水、电解质和酸碱平衡紊乱：重症肺炎可出现混合性酸中毒，因为严重缺氧时体内需氧代谢障碍，酸性代谢产物增加常可引起代谢性酸中毒，而二氧化碳潴留、碳酸增加又可导致呼吸性酸中毒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重症肺炎除呼吸系统改变外，常伴全身中毒症状及循环、神经、消化系统受累的临床表现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1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循环系统：常发生于有先心病或心肌炎的患儿，主要表现为不同程度的心功能不全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1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心率突然超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80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，或已超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00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2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突然呼吸加快，超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60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3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突然发生极度烦躁不安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4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明显发绀，面色、皮肤苍白、发灰、发花、发凉、指（趾）甲微血管再充盈时间延长，尿少或无尿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5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有奔马律，心音低钝，颈静脉怒张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X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线检查示心脏扩大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6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肝脏迅速增大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7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足背或下肢胫骨前下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/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处出现水肿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2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中枢神经系统：轻度缺氧时出现烦躁或嗜睡，严重者出现昏迷、惊厥、呼吸不规则，瞳孔对光反射迟钝或消失，可有脑膜刺激征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3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消化系统：常有纳差、腹胀、呕吐、腹泻等，重症可引起中毒性肠麻痹和消化道出血：表现为严重腹胀、肠鸣音消失、便血等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重症肺炎除呼吸系统改变外，常伴全身中毒症状及循环、神经、消化系统受累的临床表现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1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循环系统：常发生于有先心病或心肌炎的患儿，主要表现为不同程度的心功能不全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1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心率突然超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80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，或已超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00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2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突然呼吸加快，超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60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3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突然发生极度烦躁不安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4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明显发绀，面色、皮肤苍白、发灰、发花、发凉、指（趾）甲微血管再充盈时间延长，尿少或无尿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5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有奔马律，心音低钝，颈静脉怒张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X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线检查示心脏扩大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6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肝脏迅速增大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7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足背或下肢胫骨前下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/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处出现水肿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2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中枢神经系统：轻度缺氧时出现烦躁或嗜睡，严重者出现昏迷、惊厥、呼吸不规则，瞳孔对光反射迟钝或消失，可有脑膜刺激征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3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消化系统：常有纳差、腹胀、呕吐、腹泻等，重症可引起中毒性肠麻痹和消化道出血：表现为严重腹胀、肠鸣音消失、便血等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重症肺炎除呼吸系统改变外，常伴全身中毒症状及循环、神经、消化系统受累的临床表现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1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循环系统：常发生于有先心病或心肌炎的患儿，主要表现为不同程度的心功能不全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1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心率突然超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80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，或已超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00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2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突然呼吸加快，超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60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3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突然发生极度烦躁不安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4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明显发绀，面色、皮肤苍白、发灰、发花、发凉、指（趾）甲微血管再充盈时间延长，尿少或无尿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5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有奔马律，心音低钝，颈静脉怒张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X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线检查示心脏扩大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6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肝脏迅速增大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7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足背或下肢胫骨前下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/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处出现水肿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2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中枢神经系统：轻度缺氧时出现烦躁或嗜睡，严重者出现昏迷、惊厥、呼吸不规则，瞳孔对光反射迟钝或消失，可有脑膜刺激征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3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消化系统：常有纳差、腹胀、呕吐、腹泻等，重症可引起中毒性肠麻痹和消化道出血：表现为严重腹胀、肠鸣音消失、便血等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实验室及其他检查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血常规  细菌性肺炎时白细胞总数及中性粒细胞增高，并有核左移，胞浆中可见中毒颗粒；病毒性肺炎时白细胞总数正常或降低，有时可见异型淋巴细胞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病原学检查  取鼻咽拭子或气管分泌物标本可作病毒分离和鉴别；取痰液、气管吸出物、胸水、脓液及血液等作细菌培养，可明确病原菌；肺炎支原体、沙眼衣原体、真菌等可通过特殊分离培养获得相应病原诊断；病毒特异性抗原和抗体检测有助于早期诊断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胸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X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线检查  支气管肺炎早期肺纹理增粗，以后出现大小不等的斑片状阴影，可融合成片，以双肺下野、中内带及心膈区居多，多伴有肺不张或肺气肿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F5E5C-6913-4ED1-8AB3-BC9C7F6EB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3376C-7786-4E7B-AA85-8DD96F13F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99819D4-1BC2-4773-810C-BD91DAEE7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2168AC7-9391-4514-83BE-8778AE93B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838080" y="198360"/>
            <a:ext cx="655344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D78545A-EFEB-45B2-B1B4-5B4040662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8BDCEF1-A999-4D29-8CBD-21B12CCE6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19AB2BA-0B02-4AC3-9CFF-B77C0E684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06232D8-1495-4AA7-86A0-310020654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FBEE259-464E-466B-909C-BDDE8AAC3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7155FAA-E9F7-4A6E-98F0-7B9430BF7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56868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30000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83772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/>
          </p:nvPr>
        </p:nvSpPr>
        <p:spPr>
          <a:xfrm>
            <a:off x="356868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0" name="PlaceHolder 7"/>
          <p:cNvSpPr>
            <a:spLocks noGrp="1"/>
          </p:cNvSpPr>
          <p:nvPr>
            <p:ph/>
          </p:nvPr>
        </p:nvSpPr>
        <p:spPr>
          <a:xfrm>
            <a:off x="630000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396391A-8F59-4C7F-BFCE-F4B31F47E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EF26976-D3E5-473D-B300-0686AF7FA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8CDDE-842D-41C9-B47E-0A1CB8D1C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subTitle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70AB8FD-5B0D-4CDD-A8E5-7A8AB9734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C1A95B1-E676-4106-B12F-F7E3F6DD1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084E34D-2AF0-469D-AFE0-C938C003D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D7024AA-5A49-40B0-9370-8BB1DDCAB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ubTitle"/>
          </p:nvPr>
        </p:nvSpPr>
        <p:spPr>
          <a:xfrm>
            <a:off x="838080" y="198360"/>
            <a:ext cx="655344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1423702-AAE7-4084-A3EA-2D16DF624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9441A6A-5619-48C7-BA38-6C1A2E303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4395A6D-BA73-4ADB-AA07-9363D6964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FF7A754-8A97-4FAF-8308-855C961FC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919BE71-F551-422B-BA88-E475B4D92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A4FB59C-FE20-4855-9E7F-A24F589C5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56868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30000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83772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56868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30000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DBF9F-2FD8-4D95-9CC4-9B8D65768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356868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630000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83772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4" name="PlaceHolder 6"/>
          <p:cNvSpPr>
            <a:spLocks noGrp="1"/>
          </p:cNvSpPr>
          <p:nvPr>
            <p:ph/>
          </p:nvPr>
        </p:nvSpPr>
        <p:spPr>
          <a:xfrm>
            <a:off x="356868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5" name="PlaceHolder 7"/>
          <p:cNvSpPr>
            <a:spLocks noGrp="1"/>
          </p:cNvSpPr>
          <p:nvPr>
            <p:ph/>
          </p:nvPr>
        </p:nvSpPr>
        <p:spPr>
          <a:xfrm>
            <a:off x="630000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11D5034-4310-4438-902E-C6EF97EEB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0A497DF-C8EA-43A5-8D9A-BBAA7BA31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subTitle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37E5FDA-DD8B-4515-8792-3832C00E5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1BE4650-48AC-4CFA-B7ED-81D082ABF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9214027-4E49-4A61-ADD7-6EFF8F1CE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AC42294-EB55-4D91-A7C3-51C35BD67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subTitle"/>
          </p:nvPr>
        </p:nvSpPr>
        <p:spPr>
          <a:xfrm>
            <a:off x="838080" y="198360"/>
            <a:ext cx="655344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F34943C-512F-4220-A35B-65774BF95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4A74A52-05E8-48FC-84B3-F5E00D632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6F33F09-31C0-46BC-AA37-C26B6F231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8199CAC-E5A9-46F6-838B-3C88F12BE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06065C7-FC3C-47B0-9836-CCB5E3D79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3" name="PlaceHolder 5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B3C4435-1C41-4777-B9F6-27F3F5E09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356868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630000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83772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9" name="PlaceHolder 6"/>
          <p:cNvSpPr>
            <a:spLocks noGrp="1"/>
          </p:cNvSpPr>
          <p:nvPr>
            <p:ph/>
          </p:nvPr>
        </p:nvSpPr>
        <p:spPr>
          <a:xfrm>
            <a:off x="356868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0" name="PlaceHolder 7"/>
          <p:cNvSpPr>
            <a:spLocks noGrp="1"/>
          </p:cNvSpPr>
          <p:nvPr>
            <p:ph/>
          </p:nvPr>
        </p:nvSpPr>
        <p:spPr>
          <a:xfrm>
            <a:off x="630000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81285B4-9F32-42C5-8854-6C09033E5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62C630F-198D-476C-8EBF-7F7FA9A0A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A7DA429-26E2-4A4C-BF14-2ECB3DBA1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300E141-2713-4581-8879-CB05FE18F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187E70E-4C94-4A17-B2AE-484FFF503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1AE96E2-3A30-42A5-98E5-B9D226F11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838080" y="198360"/>
            <a:ext cx="655344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E70C001-A6B3-46A7-88F2-71DF85CF9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5F93C8C-035E-4A64-8E0B-DCCCC4920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2F1BDC2-6AF5-4ADB-A516-F1881F11F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A8C7244-958F-44E3-9987-594DD9221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930DF32-33FC-4B1F-B41C-E55037605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2DF6096-D222-4F54-962C-B03B71DA5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56868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30000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83772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56868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30000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2627907-8141-4A8D-8B1A-28F0019BF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838080" y="198360"/>
            <a:ext cx="655344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D3EAD-A9B3-4A67-9656-706A32680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56868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30000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83772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56868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30000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BA33991-1BC9-4C60-A47A-CF45C1B55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841CD47-7F06-477D-ABEE-EF1E3D7A3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D03D7B9-F35E-4070-8A88-BDA9C5C9C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BBB0DE1-12E3-45F6-823B-4292D3544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BE4DFEE-26B6-41AC-AE31-6CD2E2767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84CE9-5E2D-47AC-9564-E623FB6CE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838080" y="198360"/>
            <a:ext cx="655344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CEF7AC4-14AF-457F-A4EE-6FE035E92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FDCA1DF-9527-4BDB-B5C8-B1FFE9491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BB92F17-0211-4772-AA20-BF4537004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DE39CCC-6A8A-4C34-82CE-5EC30999E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01872E0-8AA8-4B8F-ADE1-3D1C177CF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1D0E142-4FA0-422F-BD0C-72DCBB1D1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56868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30000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83772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56868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30000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C09CC21-A5B5-4E0B-829C-C31239B99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900C71B-99F4-4C91-B2FF-FDF0B1AB6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11E8C16-0A33-4B33-9FB7-D714C2584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8949B4F-BBBF-4832-AAE2-FF3AEF87F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50241-33C5-404C-9FC1-4336BE3C6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61237D3-C626-42A4-BAF6-32927D7B6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AE014E4-A6BE-47CE-8FBE-07BE916D5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ubTitle"/>
          </p:nvPr>
        </p:nvSpPr>
        <p:spPr>
          <a:xfrm>
            <a:off x="838080" y="198360"/>
            <a:ext cx="655344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342D67E-AF00-45D9-9B65-1B27CE8AB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0E6E9A1-7F26-4E6F-B302-B8A6E5CEF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456F85B-A141-4C48-8B9C-3DAB18789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E35C4D9-9789-4063-B210-0CD42F53E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6E94161-D848-414E-B166-0C2E2109D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BB3E017-3A25-442B-B5AE-9DA3EB693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356868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30000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83772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/>
          </p:nvPr>
        </p:nvSpPr>
        <p:spPr>
          <a:xfrm>
            <a:off x="356868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7"/>
          <p:cNvSpPr>
            <a:spLocks noGrp="1"/>
          </p:cNvSpPr>
          <p:nvPr>
            <p:ph/>
          </p:nvPr>
        </p:nvSpPr>
        <p:spPr>
          <a:xfrm>
            <a:off x="630000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13FF1BD-324C-4447-82DE-848D1E160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F13ED92-D8AF-41B3-8E47-E3873259C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21D02-CC84-4896-B023-80A67C97B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5984E1B-6387-40FA-AE9C-E49B3E856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25B1A51-22EF-4A89-8F73-0C7F823C8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9D113F3-0F4B-4578-BC85-169757C62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3EA043F-579B-4443-9334-074DB5EE4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838080" y="198360"/>
            <a:ext cx="655344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360A0A9-60C6-4897-8FE2-81942B624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FFE82C5-D056-44F2-B53B-9FC5A2415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7BB6A81-8925-47AD-AE26-E2F7FA5DB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BD6978B-5A15-410C-9998-9E5A27B35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6027530-2785-4551-A62C-E7F988857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E99DB25-535D-444A-AD51-FFC815F0B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838080" y="198360"/>
            <a:ext cx="655344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71EA6-CE10-4DEC-A69F-63FD43D45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56868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30000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83772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356868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630000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AC8196D-9977-4764-AC02-4F664DB10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2C8CEBB-6A96-4C1C-BFDD-8E3FCCF26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C7FA6F7-78D0-4EB8-8928-23F9AF16D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E20DE18-3EEA-45CB-8F51-197DF497C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42CF2E2-4C3E-49E6-A2EB-F2359D389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B888380-822F-45B9-860D-A74C43346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ubTitle"/>
          </p:nvPr>
        </p:nvSpPr>
        <p:spPr>
          <a:xfrm>
            <a:off x="838080" y="198360"/>
            <a:ext cx="655344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4B89F55-1A1F-4057-82B0-B795E1397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287182D-CBCB-4DF0-95E8-708574A76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CCD160C-E298-426D-8B1E-9FFCFA7C3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BA6706A-8B3F-4E77-96B8-C8F9DEA4B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FB78F-3A9E-4454-A5AC-1E3818B13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F849318-06C3-4DF3-A719-D1DA20B57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18B7F48-3834-4428-AE96-293D1A404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356868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630000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83772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/>
          </p:nvPr>
        </p:nvSpPr>
        <p:spPr>
          <a:xfrm>
            <a:off x="356868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PlaceHolder 7"/>
          <p:cNvSpPr>
            <a:spLocks noGrp="1"/>
          </p:cNvSpPr>
          <p:nvPr>
            <p:ph/>
          </p:nvPr>
        </p:nvSpPr>
        <p:spPr>
          <a:xfrm>
            <a:off x="630000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3E74D5F-5C5D-4D87-8B2A-19AF01903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254144B-B398-441D-B08A-541CF256F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subTitle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9810507-6C1D-49FD-B7ED-8BF170A67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082C35C-FE8B-4A99-BD1D-B6EA9C370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B17C31B-F1F0-4A4D-986E-50D82AABA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3A5E39D-4964-4AD7-90ED-1E5BCFA8D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ubTitle"/>
          </p:nvPr>
        </p:nvSpPr>
        <p:spPr>
          <a:xfrm>
            <a:off x="838080" y="198360"/>
            <a:ext cx="655344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DB70F6F-C8E4-4CFC-BF3C-54584C5CB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8C9470E-8B19-45A9-86DF-4F3016553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9C6C3-0AD7-4473-A182-31FCBDD41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5E39975-6B1D-4BAF-A6BB-D5D711679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09964B6-A368-4A35-A400-B6F60838F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CB41D07-A662-4E02-9EB4-FB56162F3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C0C6CF5-4561-40D7-9B5A-374B245A4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356868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630000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83772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PlaceHolder 6"/>
          <p:cNvSpPr>
            <a:spLocks noGrp="1"/>
          </p:cNvSpPr>
          <p:nvPr>
            <p:ph/>
          </p:nvPr>
        </p:nvSpPr>
        <p:spPr>
          <a:xfrm>
            <a:off x="356868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PlaceHolder 7"/>
          <p:cNvSpPr>
            <a:spLocks noGrp="1"/>
          </p:cNvSpPr>
          <p:nvPr>
            <p:ph/>
          </p:nvPr>
        </p:nvSpPr>
        <p:spPr>
          <a:xfrm>
            <a:off x="630000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4EE1149-0D94-4752-9D3B-FE3D9463B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82F3714-C800-4DBF-A21F-64DE2866D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subTitle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4ACE0C5-ACB1-42A3-8C8A-9B1949C08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A9F585E-E38C-4F78-AB40-5E343FE76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0A5250B-DACA-4F01-AB96-FA6D88967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0DCD135-C9B1-42CF-95D2-A3C4C9354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2FE3D-7B81-44FC-AA2D-B01D5C964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ubTitle"/>
          </p:nvPr>
        </p:nvSpPr>
        <p:spPr>
          <a:xfrm>
            <a:off x="838080" y="198360"/>
            <a:ext cx="655344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F728532-8A52-47F6-AE90-1289EACF8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8F574C4-5F87-4E04-B12F-7C7C0BA75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C869CE4-4CB6-4325-AA8F-CA839FA6B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97799E3-3A35-40CC-A98B-B06D15718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5F1DFC3-D16F-44C3-9679-34582D1E1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E2932F8-9F5A-4C7B-9D03-BCA00B1B1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356868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630000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/>
          </p:nvPr>
        </p:nvSpPr>
        <p:spPr>
          <a:xfrm>
            <a:off x="83772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4" name="PlaceHolder 6"/>
          <p:cNvSpPr>
            <a:spLocks noGrp="1"/>
          </p:cNvSpPr>
          <p:nvPr>
            <p:ph/>
          </p:nvPr>
        </p:nvSpPr>
        <p:spPr>
          <a:xfrm>
            <a:off x="356868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PlaceHolder 7"/>
          <p:cNvSpPr>
            <a:spLocks noGrp="1"/>
          </p:cNvSpPr>
          <p:nvPr>
            <p:ph/>
          </p:nvPr>
        </p:nvSpPr>
        <p:spPr>
          <a:xfrm>
            <a:off x="630000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DC1E190-EF82-4998-879B-4DBBA4BEF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2D1A0DA-888B-4BEB-A492-B8AF4FE05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D7B26A4-D233-4ADC-81BF-7AA1DD8B4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ABE0EA7-CD5E-4175-AA60-A6ABF9A26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22"/>
          <p:cNvSpPr/>
          <p:nvPr/>
        </p:nvSpPr>
        <p:spPr>
          <a:xfrm>
            <a:off x="666720" y="0"/>
            <a:ext cx="8477280" cy="890640"/>
          </a:xfrm>
          <a:prstGeom prst="rect">
            <a:avLst/>
          </a:prstGeom>
          <a:solidFill>
            <a:srgbClr val="9bbd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" name="Rectangle 127"/>
          <p:cNvSpPr/>
          <p:nvPr/>
        </p:nvSpPr>
        <p:spPr>
          <a:xfrm>
            <a:off x="1440" y="895320"/>
            <a:ext cx="669960" cy="5089680"/>
          </a:xfrm>
          <a:prstGeom prst="rect">
            <a:avLst/>
          </a:prstGeom>
          <a:solidFill>
            <a:srgbClr val="bdd0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" name="Rectangle 121"/>
          <p:cNvSpPr/>
          <p:nvPr/>
        </p:nvSpPr>
        <p:spPr>
          <a:xfrm>
            <a:off x="0" y="0"/>
            <a:ext cx="665280" cy="89064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grpSp>
        <p:nvGrpSpPr>
          <p:cNvPr id="3" name="Group 119"/>
          <p:cNvGrpSpPr/>
          <p:nvPr/>
        </p:nvGrpSpPr>
        <p:grpSpPr>
          <a:xfrm>
            <a:off x="8217000" y="5562720"/>
            <a:ext cx="917640" cy="757080"/>
            <a:chOff x="8217000" y="5562720"/>
            <a:chExt cx="917640" cy="757080"/>
          </a:xfrm>
        </p:grpSpPr>
        <p:sp>
          <p:nvSpPr>
            <p:cNvPr id="4" name="Rectangle 108"/>
            <p:cNvSpPr/>
            <p:nvPr/>
          </p:nvSpPr>
          <p:spPr>
            <a:xfrm>
              <a:off x="8435880" y="607860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5" name="Rectangle 109"/>
            <p:cNvSpPr/>
            <p:nvPr/>
          </p:nvSpPr>
          <p:spPr>
            <a:xfrm>
              <a:off x="8217000" y="5562720"/>
              <a:ext cx="24120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6" name="Rectangle 110"/>
            <p:cNvSpPr/>
            <p:nvPr/>
          </p:nvSpPr>
          <p:spPr>
            <a:xfrm>
              <a:off x="8893080" y="556272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dt" idx="1"/>
          </p:nvPr>
        </p:nvSpPr>
        <p:spPr>
          <a:xfrm>
            <a:off x="33523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ftr" idx="2"/>
          </p:nvPr>
        </p:nvSpPr>
        <p:spPr>
          <a:xfrm>
            <a:off x="6232320" y="6546600"/>
            <a:ext cx="20826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body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e08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1b6d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Text Box 126"/>
          <p:cNvSpPr/>
          <p:nvPr/>
        </p:nvSpPr>
        <p:spPr>
          <a:xfrm>
            <a:off x="8153280" y="649116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d7181f"/>
                </a:solidFill>
                <a:latin typeface="Arial Black"/>
                <a:ea typeface="宋体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2" name="Rectangle 129"/>
          <p:cNvSpPr/>
          <p:nvPr/>
        </p:nvSpPr>
        <p:spPr>
          <a:xfrm>
            <a:off x="0" y="5970600"/>
            <a:ext cx="669960" cy="88740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1519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44700-D6B1-47D7-A442-00098CFC8445}" type="slidenum">
              <a:rPr b="0" lang="zh-CN" sz="10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Rectangle 130"/>
          <p:cNvSpPr/>
          <p:nvPr/>
        </p:nvSpPr>
        <p:spPr>
          <a:xfrm>
            <a:off x="7848720" y="0"/>
            <a:ext cx="1295280" cy="8874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5" name="Line 133"/>
          <p:cNvSpPr/>
          <p:nvPr/>
        </p:nvSpPr>
        <p:spPr>
          <a:xfrm>
            <a:off x="0" y="89532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6" name="Line 132"/>
          <p:cNvSpPr/>
          <p:nvPr/>
        </p:nvSpPr>
        <p:spPr>
          <a:xfrm>
            <a:off x="66996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7" name="Line 134"/>
          <p:cNvSpPr/>
          <p:nvPr/>
        </p:nvSpPr>
        <p:spPr>
          <a:xfrm>
            <a:off x="784224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8" name="Line 135"/>
          <p:cNvSpPr/>
          <p:nvPr/>
        </p:nvSpPr>
        <p:spPr>
          <a:xfrm>
            <a:off x="9360" y="5967360"/>
            <a:ext cx="641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122"/>
          <p:cNvSpPr/>
          <p:nvPr/>
        </p:nvSpPr>
        <p:spPr>
          <a:xfrm>
            <a:off x="666720" y="0"/>
            <a:ext cx="8477280" cy="890640"/>
          </a:xfrm>
          <a:prstGeom prst="rect">
            <a:avLst/>
          </a:prstGeom>
          <a:solidFill>
            <a:srgbClr val="9bbd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492" name="Rectangle 127"/>
          <p:cNvSpPr/>
          <p:nvPr/>
        </p:nvSpPr>
        <p:spPr>
          <a:xfrm>
            <a:off x="1440" y="895320"/>
            <a:ext cx="669960" cy="5089680"/>
          </a:xfrm>
          <a:prstGeom prst="rect">
            <a:avLst/>
          </a:prstGeom>
          <a:solidFill>
            <a:srgbClr val="bdd0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493" name="Rectangle 121"/>
          <p:cNvSpPr/>
          <p:nvPr/>
        </p:nvSpPr>
        <p:spPr>
          <a:xfrm>
            <a:off x="0" y="0"/>
            <a:ext cx="665280" cy="89064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grpSp>
        <p:nvGrpSpPr>
          <p:cNvPr id="494" name="Group 119"/>
          <p:cNvGrpSpPr/>
          <p:nvPr/>
        </p:nvGrpSpPr>
        <p:grpSpPr>
          <a:xfrm>
            <a:off x="8217000" y="5562720"/>
            <a:ext cx="917640" cy="757080"/>
            <a:chOff x="8217000" y="5562720"/>
            <a:chExt cx="917640" cy="757080"/>
          </a:xfrm>
        </p:grpSpPr>
        <p:sp>
          <p:nvSpPr>
            <p:cNvPr id="495" name="Rectangle 108"/>
            <p:cNvSpPr/>
            <p:nvPr/>
          </p:nvSpPr>
          <p:spPr>
            <a:xfrm>
              <a:off x="8435880" y="607860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496" name="Rectangle 109"/>
            <p:cNvSpPr/>
            <p:nvPr/>
          </p:nvSpPr>
          <p:spPr>
            <a:xfrm>
              <a:off x="8217000" y="5562720"/>
              <a:ext cx="24120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497" name="Rectangle 110"/>
            <p:cNvSpPr/>
            <p:nvPr/>
          </p:nvSpPr>
          <p:spPr>
            <a:xfrm>
              <a:off x="8893080" y="556272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</p:grpSp>
      <p:sp>
        <p:nvSpPr>
          <p:cNvPr id="498" name="Text Box 126"/>
          <p:cNvSpPr/>
          <p:nvPr/>
        </p:nvSpPr>
        <p:spPr>
          <a:xfrm>
            <a:off x="8153280" y="649116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d7181f"/>
                </a:solidFill>
                <a:latin typeface="Arial Black"/>
                <a:ea typeface="宋体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499" name="Rectangle 129"/>
          <p:cNvSpPr/>
          <p:nvPr/>
        </p:nvSpPr>
        <p:spPr>
          <a:xfrm>
            <a:off x="0" y="5970600"/>
            <a:ext cx="669960" cy="88740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00" name="Rectangle 130"/>
          <p:cNvSpPr/>
          <p:nvPr/>
        </p:nvSpPr>
        <p:spPr>
          <a:xfrm>
            <a:off x="7848720" y="0"/>
            <a:ext cx="1295280" cy="8874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01" name="Line 133"/>
          <p:cNvSpPr/>
          <p:nvPr/>
        </p:nvSpPr>
        <p:spPr>
          <a:xfrm>
            <a:off x="0" y="89532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02" name="Line 132"/>
          <p:cNvSpPr/>
          <p:nvPr/>
        </p:nvSpPr>
        <p:spPr>
          <a:xfrm>
            <a:off x="66996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03" name="Line 134"/>
          <p:cNvSpPr/>
          <p:nvPr/>
        </p:nvSpPr>
        <p:spPr>
          <a:xfrm>
            <a:off x="784224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04" name="Line 135"/>
          <p:cNvSpPr/>
          <p:nvPr/>
        </p:nvSpPr>
        <p:spPr>
          <a:xfrm>
            <a:off x="9360" y="5967360"/>
            <a:ext cx="641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e08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1b6d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 type="dt" idx="26"/>
          </p:nvPr>
        </p:nvSpPr>
        <p:spPr>
          <a:xfrm>
            <a:off x="33523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 type="ftr" idx="27"/>
          </p:nvPr>
        </p:nvSpPr>
        <p:spPr>
          <a:xfrm>
            <a:off x="6232320" y="6546600"/>
            <a:ext cx="20826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 type="sldNum" idx="28"/>
          </p:nvPr>
        </p:nvSpPr>
        <p:spPr>
          <a:xfrm>
            <a:off x="1519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937A1-C713-4170-B460-794FB674E145}" type="slidenum">
              <a:rPr b="0" lang="zh-CN" sz="10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122"/>
          <p:cNvSpPr/>
          <p:nvPr/>
        </p:nvSpPr>
        <p:spPr>
          <a:xfrm>
            <a:off x="666720" y="0"/>
            <a:ext cx="8477280" cy="890640"/>
          </a:xfrm>
          <a:prstGeom prst="rect">
            <a:avLst/>
          </a:prstGeom>
          <a:solidFill>
            <a:srgbClr val="9bbd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47" name="Rectangle 127"/>
          <p:cNvSpPr/>
          <p:nvPr/>
        </p:nvSpPr>
        <p:spPr>
          <a:xfrm>
            <a:off x="1440" y="895320"/>
            <a:ext cx="669960" cy="5089680"/>
          </a:xfrm>
          <a:prstGeom prst="rect">
            <a:avLst/>
          </a:prstGeom>
          <a:solidFill>
            <a:srgbClr val="bdd0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48" name="Rectangle 121"/>
          <p:cNvSpPr/>
          <p:nvPr/>
        </p:nvSpPr>
        <p:spPr>
          <a:xfrm>
            <a:off x="0" y="0"/>
            <a:ext cx="665280" cy="89064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grpSp>
        <p:nvGrpSpPr>
          <p:cNvPr id="549" name="Group 119"/>
          <p:cNvGrpSpPr/>
          <p:nvPr/>
        </p:nvGrpSpPr>
        <p:grpSpPr>
          <a:xfrm>
            <a:off x="8217000" y="5562720"/>
            <a:ext cx="917640" cy="757080"/>
            <a:chOff x="8217000" y="5562720"/>
            <a:chExt cx="917640" cy="757080"/>
          </a:xfrm>
        </p:grpSpPr>
        <p:sp>
          <p:nvSpPr>
            <p:cNvPr id="550" name="Rectangle 108"/>
            <p:cNvSpPr/>
            <p:nvPr/>
          </p:nvSpPr>
          <p:spPr>
            <a:xfrm>
              <a:off x="8435880" y="607860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551" name="Rectangle 109"/>
            <p:cNvSpPr/>
            <p:nvPr/>
          </p:nvSpPr>
          <p:spPr>
            <a:xfrm>
              <a:off x="8217000" y="5562720"/>
              <a:ext cx="24120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552" name="Rectangle 110"/>
            <p:cNvSpPr/>
            <p:nvPr/>
          </p:nvSpPr>
          <p:spPr>
            <a:xfrm>
              <a:off x="8893080" y="556272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</p:grpSp>
      <p:sp>
        <p:nvSpPr>
          <p:cNvPr id="553" name="Text Box 126"/>
          <p:cNvSpPr/>
          <p:nvPr/>
        </p:nvSpPr>
        <p:spPr>
          <a:xfrm>
            <a:off x="8153280" y="649116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d7181f"/>
                </a:solidFill>
                <a:latin typeface="Arial Black"/>
                <a:ea typeface="宋体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54" name="Rectangle 129"/>
          <p:cNvSpPr/>
          <p:nvPr/>
        </p:nvSpPr>
        <p:spPr>
          <a:xfrm>
            <a:off x="0" y="5970600"/>
            <a:ext cx="669960" cy="88740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55" name="Rectangle 130"/>
          <p:cNvSpPr/>
          <p:nvPr/>
        </p:nvSpPr>
        <p:spPr>
          <a:xfrm>
            <a:off x="7848720" y="0"/>
            <a:ext cx="1295280" cy="8874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56" name="Line 133"/>
          <p:cNvSpPr/>
          <p:nvPr/>
        </p:nvSpPr>
        <p:spPr>
          <a:xfrm>
            <a:off x="0" y="89532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57" name="Line 132"/>
          <p:cNvSpPr/>
          <p:nvPr/>
        </p:nvSpPr>
        <p:spPr>
          <a:xfrm>
            <a:off x="66996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58" name="Line 134"/>
          <p:cNvSpPr/>
          <p:nvPr/>
        </p:nvSpPr>
        <p:spPr>
          <a:xfrm>
            <a:off x="784224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59" name="Line 135"/>
          <p:cNvSpPr/>
          <p:nvPr/>
        </p:nvSpPr>
        <p:spPr>
          <a:xfrm>
            <a:off x="9360" y="5967360"/>
            <a:ext cx="641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e08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1b6d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 type="dt" idx="29"/>
          </p:nvPr>
        </p:nvSpPr>
        <p:spPr>
          <a:xfrm>
            <a:off x="33523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 type="ftr" idx="30"/>
          </p:nvPr>
        </p:nvSpPr>
        <p:spPr>
          <a:xfrm>
            <a:off x="6232320" y="6546600"/>
            <a:ext cx="20826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 type="sldNum" idx="31"/>
          </p:nvPr>
        </p:nvSpPr>
        <p:spPr>
          <a:xfrm>
            <a:off x="1519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AC52E-1565-44D2-B47A-3EF2AC782FC7}" type="slidenum">
              <a:rPr b="0" lang="zh-CN" sz="10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Rectangle 122"/>
          <p:cNvSpPr/>
          <p:nvPr/>
        </p:nvSpPr>
        <p:spPr>
          <a:xfrm>
            <a:off x="666720" y="0"/>
            <a:ext cx="8477280" cy="890640"/>
          </a:xfrm>
          <a:prstGeom prst="rect">
            <a:avLst/>
          </a:prstGeom>
          <a:solidFill>
            <a:srgbClr val="9bbd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02" name="Rectangle 127"/>
          <p:cNvSpPr/>
          <p:nvPr/>
        </p:nvSpPr>
        <p:spPr>
          <a:xfrm>
            <a:off x="1440" y="895320"/>
            <a:ext cx="669960" cy="5089680"/>
          </a:xfrm>
          <a:prstGeom prst="rect">
            <a:avLst/>
          </a:prstGeom>
          <a:solidFill>
            <a:srgbClr val="bdd0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03" name="Rectangle 121"/>
          <p:cNvSpPr/>
          <p:nvPr/>
        </p:nvSpPr>
        <p:spPr>
          <a:xfrm>
            <a:off x="0" y="0"/>
            <a:ext cx="665280" cy="89064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grpSp>
        <p:nvGrpSpPr>
          <p:cNvPr id="604" name="Group 119"/>
          <p:cNvGrpSpPr/>
          <p:nvPr/>
        </p:nvGrpSpPr>
        <p:grpSpPr>
          <a:xfrm>
            <a:off x="8217000" y="5562720"/>
            <a:ext cx="917640" cy="757080"/>
            <a:chOff x="8217000" y="5562720"/>
            <a:chExt cx="917640" cy="757080"/>
          </a:xfrm>
        </p:grpSpPr>
        <p:sp>
          <p:nvSpPr>
            <p:cNvPr id="605" name="Rectangle 108"/>
            <p:cNvSpPr/>
            <p:nvPr/>
          </p:nvSpPr>
          <p:spPr>
            <a:xfrm>
              <a:off x="8435880" y="607860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606" name="Rectangle 109"/>
            <p:cNvSpPr/>
            <p:nvPr/>
          </p:nvSpPr>
          <p:spPr>
            <a:xfrm>
              <a:off x="8217000" y="5562720"/>
              <a:ext cx="24120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607" name="Rectangle 110"/>
            <p:cNvSpPr/>
            <p:nvPr/>
          </p:nvSpPr>
          <p:spPr>
            <a:xfrm>
              <a:off x="8893080" y="556272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</p:grpSp>
      <p:sp>
        <p:nvSpPr>
          <p:cNvPr id="608" name="Text Box 126"/>
          <p:cNvSpPr/>
          <p:nvPr/>
        </p:nvSpPr>
        <p:spPr>
          <a:xfrm>
            <a:off x="8153280" y="649116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d7181f"/>
                </a:solidFill>
                <a:latin typeface="Arial Black"/>
                <a:ea typeface="宋体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09" name="Rectangle 129"/>
          <p:cNvSpPr/>
          <p:nvPr/>
        </p:nvSpPr>
        <p:spPr>
          <a:xfrm>
            <a:off x="0" y="5970600"/>
            <a:ext cx="669960" cy="88740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10" name="Rectangle 130"/>
          <p:cNvSpPr/>
          <p:nvPr/>
        </p:nvSpPr>
        <p:spPr>
          <a:xfrm>
            <a:off x="7848720" y="0"/>
            <a:ext cx="1295280" cy="8874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11" name="Line 133"/>
          <p:cNvSpPr/>
          <p:nvPr/>
        </p:nvSpPr>
        <p:spPr>
          <a:xfrm>
            <a:off x="0" y="89532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12" name="Line 132"/>
          <p:cNvSpPr/>
          <p:nvPr/>
        </p:nvSpPr>
        <p:spPr>
          <a:xfrm>
            <a:off x="66996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13" name="Line 134"/>
          <p:cNvSpPr/>
          <p:nvPr/>
        </p:nvSpPr>
        <p:spPr>
          <a:xfrm>
            <a:off x="784224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14" name="Line 135"/>
          <p:cNvSpPr/>
          <p:nvPr/>
        </p:nvSpPr>
        <p:spPr>
          <a:xfrm>
            <a:off x="9360" y="5967360"/>
            <a:ext cx="641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e08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1b6d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32"/>
          </p:nvPr>
        </p:nvSpPr>
        <p:spPr>
          <a:xfrm>
            <a:off x="33523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33"/>
          </p:nvPr>
        </p:nvSpPr>
        <p:spPr>
          <a:xfrm>
            <a:off x="6232320" y="6546600"/>
            <a:ext cx="20826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34"/>
          </p:nvPr>
        </p:nvSpPr>
        <p:spPr>
          <a:xfrm>
            <a:off x="1519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0F7AF-724D-4EF0-B620-421193A0ACFC}" type="slidenum">
              <a:rPr b="0" lang="zh-CN" sz="10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96"/>
          <p:cNvSpPr/>
          <p:nvPr/>
        </p:nvSpPr>
        <p:spPr>
          <a:xfrm>
            <a:off x="0" y="5383080"/>
            <a:ext cx="2639880" cy="1474920"/>
          </a:xfrm>
          <a:prstGeom prst="rect">
            <a:avLst/>
          </a:prstGeom>
          <a:solidFill>
            <a:srgbClr val="bdd0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6" name="Rectangle 92"/>
          <p:cNvSpPr/>
          <p:nvPr/>
        </p:nvSpPr>
        <p:spPr>
          <a:xfrm>
            <a:off x="0" y="0"/>
            <a:ext cx="2658960" cy="214956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7" name="Rectangle 93"/>
          <p:cNvSpPr/>
          <p:nvPr/>
        </p:nvSpPr>
        <p:spPr>
          <a:xfrm>
            <a:off x="2666880" y="0"/>
            <a:ext cx="6477120" cy="2149560"/>
          </a:xfrm>
          <a:prstGeom prst="rect">
            <a:avLst/>
          </a:prstGeom>
          <a:solidFill>
            <a:srgbClr val="9bbd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8" name="Text Box 14"/>
          <p:cNvSpPr/>
          <p:nvPr/>
        </p:nvSpPr>
        <p:spPr>
          <a:xfrm>
            <a:off x="1359000" y="1706400"/>
            <a:ext cx="1231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d7181f"/>
                </a:solidFill>
                <a:latin typeface="Arial Black"/>
                <a:ea typeface="宋体"/>
              </a:rPr>
              <a:t>LOGO</a:t>
            </a:r>
            <a:endParaRPr b="0" lang="en-US" sz="22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9" name="Rectangle 102"/>
          <p:cNvSpPr/>
          <p:nvPr/>
        </p:nvSpPr>
        <p:spPr>
          <a:xfrm>
            <a:off x="0" y="2133720"/>
            <a:ext cx="5769000" cy="3259080"/>
          </a:xfrm>
          <a:prstGeom prst="rect">
            <a:avLst/>
          </a:prstGeom>
          <a:solidFill>
            <a:srgbClr val="eee0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0" name="Rectangle 103"/>
          <p:cNvSpPr/>
          <p:nvPr/>
        </p:nvSpPr>
        <p:spPr>
          <a:xfrm>
            <a:off x="5769000" y="2133720"/>
            <a:ext cx="3365640" cy="3259080"/>
          </a:xfrm>
          <a:prstGeom prst="rect">
            <a:avLst/>
          </a:prstGeom>
          <a:solidFill>
            <a:srgbClr val="d1b6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1" name="Line 107"/>
          <p:cNvSpPr/>
          <p:nvPr/>
        </p:nvSpPr>
        <p:spPr>
          <a:xfrm>
            <a:off x="2666880" y="0"/>
            <a:ext cx="0" cy="21337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2" name="Line 109"/>
          <p:cNvSpPr/>
          <p:nvPr/>
        </p:nvSpPr>
        <p:spPr>
          <a:xfrm>
            <a:off x="0" y="539604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3" name="Rectangle 113"/>
          <p:cNvSpPr/>
          <p:nvPr/>
        </p:nvSpPr>
        <p:spPr>
          <a:xfrm>
            <a:off x="9360" y="2133720"/>
            <a:ext cx="5769000" cy="32590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4" name="Rectangle 114"/>
          <p:cNvSpPr/>
          <p:nvPr/>
        </p:nvSpPr>
        <p:spPr>
          <a:xfrm>
            <a:off x="5778360" y="2133720"/>
            <a:ext cx="3365640" cy="325908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5" name="Line 108"/>
          <p:cNvSpPr/>
          <p:nvPr/>
        </p:nvSpPr>
        <p:spPr>
          <a:xfrm>
            <a:off x="0" y="213372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6" name="Line 110"/>
          <p:cNvSpPr/>
          <p:nvPr/>
        </p:nvSpPr>
        <p:spPr>
          <a:xfrm>
            <a:off x="5778360" y="2139840"/>
            <a:ext cx="0" cy="32608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e08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1b6d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ftr" idx="4"/>
          </p:nvPr>
        </p:nvSpPr>
        <p:spPr>
          <a:xfrm>
            <a:off x="6152760" y="6477120"/>
            <a:ext cx="28954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122"/>
          <p:cNvSpPr/>
          <p:nvPr/>
        </p:nvSpPr>
        <p:spPr>
          <a:xfrm>
            <a:off x="666720" y="0"/>
            <a:ext cx="8477280" cy="890640"/>
          </a:xfrm>
          <a:prstGeom prst="rect">
            <a:avLst/>
          </a:prstGeom>
          <a:solidFill>
            <a:srgbClr val="9bbd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07" name="Rectangle 127"/>
          <p:cNvSpPr/>
          <p:nvPr/>
        </p:nvSpPr>
        <p:spPr>
          <a:xfrm>
            <a:off x="1440" y="895320"/>
            <a:ext cx="669960" cy="5089680"/>
          </a:xfrm>
          <a:prstGeom prst="rect">
            <a:avLst/>
          </a:prstGeom>
          <a:solidFill>
            <a:srgbClr val="bdd0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08" name="Rectangle 121"/>
          <p:cNvSpPr/>
          <p:nvPr/>
        </p:nvSpPr>
        <p:spPr>
          <a:xfrm>
            <a:off x="0" y="0"/>
            <a:ext cx="665280" cy="89064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grpSp>
        <p:nvGrpSpPr>
          <p:cNvPr id="109" name="Group 119"/>
          <p:cNvGrpSpPr/>
          <p:nvPr/>
        </p:nvGrpSpPr>
        <p:grpSpPr>
          <a:xfrm>
            <a:off x="8217000" y="5562720"/>
            <a:ext cx="917640" cy="757080"/>
            <a:chOff x="8217000" y="5562720"/>
            <a:chExt cx="917640" cy="757080"/>
          </a:xfrm>
        </p:grpSpPr>
        <p:sp>
          <p:nvSpPr>
            <p:cNvPr id="110" name="Rectangle 108"/>
            <p:cNvSpPr/>
            <p:nvPr/>
          </p:nvSpPr>
          <p:spPr>
            <a:xfrm>
              <a:off x="8435880" y="607860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111" name="Rectangle 109"/>
            <p:cNvSpPr/>
            <p:nvPr/>
          </p:nvSpPr>
          <p:spPr>
            <a:xfrm>
              <a:off x="8217000" y="5562720"/>
              <a:ext cx="24120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112" name="Rectangle 110"/>
            <p:cNvSpPr/>
            <p:nvPr/>
          </p:nvSpPr>
          <p:spPr>
            <a:xfrm>
              <a:off x="8893080" y="556272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</p:grpSp>
      <p:sp>
        <p:nvSpPr>
          <p:cNvPr id="113" name="Text Box 126"/>
          <p:cNvSpPr/>
          <p:nvPr/>
        </p:nvSpPr>
        <p:spPr>
          <a:xfrm>
            <a:off x="8153280" y="649116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d7181f"/>
                </a:solidFill>
                <a:latin typeface="Arial Black"/>
                <a:ea typeface="宋体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14" name="Rectangle 129"/>
          <p:cNvSpPr/>
          <p:nvPr/>
        </p:nvSpPr>
        <p:spPr>
          <a:xfrm>
            <a:off x="0" y="5970600"/>
            <a:ext cx="669960" cy="88740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15" name="Rectangle 130"/>
          <p:cNvSpPr/>
          <p:nvPr/>
        </p:nvSpPr>
        <p:spPr>
          <a:xfrm>
            <a:off x="7848720" y="0"/>
            <a:ext cx="1295280" cy="8874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16" name="Line 133"/>
          <p:cNvSpPr/>
          <p:nvPr/>
        </p:nvSpPr>
        <p:spPr>
          <a:xfrm>
            <a:off x="0" y="89532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17" name="Line 132"/>
          <p:cNvSpPr/>
          <p:nvPr/>
        </p:nvSpPr>
        <p:spPr>
          <a:xfrm>
            <a:off x="66996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18" name="Line 134"/>
          <p:cNvSpPr/>
          <p:nvPr/>
        </p:nvSpPr>
        <p:spPr>
          <a:xfrm>
            <a:off x="784224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19" name="Line 135"/>
          <p:cNvSpPr/>
          <p:nvPr/>
        </p:nvSpPr>
        <p:spPr>
          <a:xfrm>
            <a:off x="9360" y="5967360"/>
            <a:ext cx="641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e08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1b6d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5"/>
          </p:nvPr>
        </p:nvSpPr>
        <p:spPr>
          <a:xfrm>
            <a:off x="33523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6"/>
          </p:nvPr>
        </p:nvSpPr>
        <p:spPr>
          <a:xfrm>
            <a:off x="6232320" y="6546600"/>
            <a:ext cx="20826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7"/>
          </p:nvPr>
        </p:nvSpPr>
        <p:spPr>
          <a:xfrm>
            <a:off x="1519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40CF1-E530-46E0-9F36-43D201E5C1A7}" type="slidenum">
              <a:rPr b="0" lang="zh-CN" sz="10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22"/>
          <p:cNvSpPr/>
          <p:nvPr/>
        </p:nvSpPr>
        <p:spPr>
          <a:xfrm>
            <a:off x="666720" y="0"/>
            <a:ext cx="8477280" cy="890640"/>
          </a:xfrm>
          <a:prstGeom prst="rect">
            <a:avLst/>
          </a:prstGeom>
          <a:solidFill>
            <a:srgbClr val="9bbd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62" name="Rectangle 127"/>
          <p:cNvSpPr/>
          <p:nvPr/>
        </p:nvSpPr>
        <p:spPr>
          <a:xfrm>
            <a:off x="1440" y="895320"/>
            <a:ext cx="669960" cy="5089680"/>
          </a:xfrm>
          <a:prstGeom prst="rect">
            <a:avLst/>
          </a:prstGeom>
          <a:solidFill>
            <a:srgbClr val="bdd0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63" name="Rectangle 121"/>
          <p:cNvSpPr/>
          <p:nvPr/>
        </p:nvSpPr>
        <p:spPr>
          <a:xfrm>
            <a:off x="0" y="0"/>
            <a:ext cx="665280" cy="89064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grpSp>
        <p:nvGrpSpPr>
          <p:cNvPr id="164" name="Group 119"/>
          <p:cNvGrpSpPr/>
          <p:nvPr/>
        </p:nvGrpSpPr>
        <p:grpSpPr>
          <a:xfrm>
            <a:off x="8217000" y="5562720"/>
            <a:ext cx="917640" cy="757080"/>
            <a:chOff x="8217000" y="5562720"/>
            <a:chExt cx="917640" cy="757080"/>
          </a:xfrm>
        </p:grpSpPr>
        <p:sp>
          <p:nvSpPr>
            <p:cNvPr id="165" name="Rectangle 108"/>
            <p:cNvSpPr/>
            <p:nvPr/>
          </p:nvSpPr>
          <p:spPr>
            <a:xfrm>
              <a:off x="8435880" y="607860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166" name="Rectangle 109"/>
            <p:cNvSpPr/>
            <p:nvPr/>
          </p:nvSpPr>
          <p:spPr>
            <a:xfrm>
              <a:off x="8217000" y="5562720"/>
              <a:ext cx="24120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167" name="Rectangle 110"/>
            <p:cNvSpPr/>
            <p:nvPr/>
          </p:nvSpPr>
          <p:spPr>
            <a:xfrm>
              <a:off x="8893080" y="556272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</p:grpSp>
      <p:sp>
        <p:nvSpPr>
          <p:cNvPr id="168" name="Text Box 126"/>
          <p:cNvSpPr/>
          <p:nvPr/>
        </p:nvSpPr>
        <p:spPr>
          <a:xfrm>
            <a:off x="8153280" y="649116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d7181f"/>
                </a:solidFill>
                <a:latin typeface="Arial Black"/>
                <a:ea typeface="宋体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69" name="Rectangle 129"/>
          <p:cNvSpPr/>
          <p:nvPr/>
        </p:nvSpPr>
        <p:spPr>
          <a:xfrm>
            <a:off x="0" y="5970600"/>
            <a:ext cx="669960" cy="88740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70" name="Rectangle 130"/>
          <p:cNvSpPr/>
          <p:nvPr/>
        </p:nvSpPr>
        <p:spPr>
          <a:xfrm>
            <a:off x="7848720" y="0"/>
            <a:ext cx="1295280" cy="8874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71" name="Line 133"/>
          <p:cNvSpPr/>
          <p:nvPr/>
        </p:nvSpPr>
        <p:spPr>
          <a:xfrm>
            <a:off x="0" y="89532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72" name="Line 132"/>
          <p:cNvSpPr/>
          <p:nvPr/>
        </p:nvSpPr>
        <p:spPr>
          <a:xfrm>
            <a:off x="66996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73" name="Line 134"/>
          <p:cNvSpPr/>
          <p:nvPr/>
        </p:nvSpPr>
        <p:spPr>
          <a:xfrm>
            <a:off x="784224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74" name="Line 135"/>
          <p:cNvSpPr/>
          <p:nvPr/>
        </p:nvSpPr>
        <p:spPr>
          <a:xfrm>
            <a:off x="9360" y="5967360"/>
            <a:ext cx="641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e08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1b6d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dt" idx="8"/>
          </p:nvPr>
        </p:nvSpPr>
        <p:spPr>
          <a:xfrm>
            <a:off x="33523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ftr" idx="9"/>
          </p:nvPr>
        </p:nvSpPr>
        <p:spPr>
          <a:xfrm>
            <a:off x="6232320" y="6546600"/>
            <a:ext cx="20826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 type="sldNum" idx="10"/>
          </p:nvPr>
        </p:nvSpPr>
        <p:spPr>
          <a:xfrm>
            <a:off x="1519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8397F-2DC7-44C7-9215-F333F1743410}" type="slidenum">
              <a:rPr b="0" lang="zh-CN" sz="10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122"/>
          <p:cNvSpPr/>
          <p:nvPr/>
        </p:nvSpPr>
        <p:spPr>
          <a:xfrm>
            <a:off x="666720" y="0"/>
            <a:ext cx="8477280" cy="890640"/>
          </a:xfrm>
          <a:prstGeom prst="rect">
            <a:avLst/>
          </a:prstGeom>
          <a:solidFill>
            <a:srgbClr val="9bbd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17" name="Rectangle 127"/>
          <p:cNvSpPr/>
          <p:nvPr/>
        </p:nvSpPr>
        <p:spPr>
          <a:xfrm>
            <a:off x="1440" y="895320"/>
            <a:ext cx="669960" cy="5089680"/>
          </a:xfrm>
          <a:prstGeom prst="rect">
            <a:avLst/>
          </a:prstGeom>
          <a:solidFill>
            <a:srgbClr val="bdd0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18" name="Rectangle 121"/>
          <p:cNvSpPr/>
          <p:nvPr/>
        </p:nvSpPr>
        <p:spPr>
          <a:xfrm>
            <a:off x="0" y="0"/>
            <a:ext cx="665280" cy="89064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grpSp>
        <p:nvGrpSpPr>
          <p:cNvPr id="219" name="Group 119"/>
          <p:cNvGrpSpPr/>
          <p:nvPr/>
        </p:nvGrpSpPr>
        <p:grpSpPr>
          <a:xfrm>
            <a:off x="8217000" y="5562720"/>
            <a:ext cx="917640" cy="757080"/>
            <a:chOff x="8217000" y="5562720"/>
            <a:chExt cx="917640" cy="757080"/>
          </a:xfrm>
        </p:grpSpPr>
        <p:sp>
          <p:nvSpPr>
            <p:cNvPr id="220" name="Rectangle 108"/>
            <p:cNvSpPr/>
            <p:nvPr/>
          </p:nvSpPr>
          <p:spPr>
            <a:xfrm>
              <a:off x="8435880" y="607860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221" name="Rectangle 109"/>
            <p:cNvSpPr/>
            <p:nvPr/>
          </p:nvSpPr>
          <p:spPr>
            <a:xfrm>
              <a:off x="8217000" y="5562720"/>
              <a:ext cx="24120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222" name="Rectangle 110"/>
            <p:cNvSpPr/>
            <p:nvPr/>
          </p:nvSpPr>
          <p:spPr>
            <a:xfrm>
              <a:off x="8893080" y="556272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</p:grpSp>
      <p:sp>
        <p:nvSpPr>
          <p:cNvPr id="223" name="Text Box 126"/>
          <p:cNvSpPr/>
          <p:nvPr/>
        </p:nvSpPr>
        <p:spPr>
          <a:xfrm>
            <a:off x="8153280" y="649116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d7181f"/>
                </a:solidFill>
                <a:latin typeface="Arial Black"/>
                <a:ea typeface="宋体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24" name="Rectangle 129"/>
          <p:cNvSpPr/>
          <p:nvPr/>
        </p:nvSpPr>
        <p:spPr>
          <a:xfrm>
            <a:off x="0" y="5970600"/>
            <a:ext cx="669960" cy="88740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25" name="Rectangle 130"/>
          <p:cNvSpPr/>
          <p:nvPr/>
        </p:nvSpPr>
        <p:spPr>
          <a:xfrm>
            <a:off x="7848720" y="0"/>
            <a:ext cx="1295280" cy="8874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26" name="Line 133"/>
          <p:cNvSpPr/>
          <p:nvPr/>
        </p:nvSpPr>
        <p:spPr>
          <a:xfrm>
            <a:off x="0" y="89532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27" name="Line 132"/>
          <p:cNvSpPr/>
          <p:nvPr/>
        </p:nvSpPr>
        <p:spPr>
          <a:xfrm>
            <a:off x="66996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28" name="Line 134"/>
          <p:cNvSpPr/>
          <p:nvPr/>
        </p:nvSpPr>
        <p:spPr>
          <a:xfrm>
            <a:off x="784224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29" name="Line 135"/>
          <p:cNvSpPr/>
          <p:nvPr/>
        </p:nvSpPr>
        <p:spPr>
          <a:xfrm>
            <a:off x="9360" y="5967360"/>
            <a:ext cx="641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e08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1b6d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dt" idx="11"/>
          </p:nvPr>
        </p:nvSpPr>
        <p:spPr>
          <a:xfrm>
            <a:off x="33523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 type="ftr" idx="12"/>
          </p:nvPr>
        </p:nvSpPr>
        <p:spPr>
          <a:xfrm>
            <a:off x="6232320" y="6546600"/>
            <a:ext cx="20826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 type="sldNum" idx="13"/>
          </p:nvPr>
        </p:nvSpPr>
        <p:spPr>
          <a:xfrm>
            <a:off x="1519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80D63-6C96-4EC9-A23E-79E073BE8EBB}" type="slidenum">
              <a:rPr b="0" lang="zh-CN" sz="10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122"/>
          <p:cNvSpPr/>
          <p:nvPr/>
        </p:nvSpPr>
        <p:spPr>
          <a:xfrm>
            <a:off x="666720" y="0"/>
            <a:ext cx="8477280" cy="890640"/>
          </a:xfrm>
          <a:prstGeom prst="rect">
            <a:avLst/>
          </a:prstGeom>
          <a:solidFill>
            <a:srgbClr val="9bbd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72" name="Rectangle 127"/>
          <p:cNvSpPr/>
          <p:nvPr/>
        </p:nvSpPr>
        <p:spPr>
          <a:xfrm>
            <a:off x="1440" y="895320"/>
            <a:ext cx="669960" cy="5089680"/>
          </a:xfrm>
          <a:prstGeom prst="rect">
            <a:avLst/>
          </a:prstGeom>
          <a:solidFill>
            <a:srgbClr val="bdd0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73" name="Rectangle 121"/>
          <p:cNvSpPr/>
          <p:nvPr/>
        </p:nvSpPr>
        <p:spPr>
          <a:xfrm>
            <a:off x="0" y="0"/>
            <a:ext cx="665280" cy="89064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grpSp>
        <p:nvGrpSpPr>
          <p:cNvPr id="274" name="Group 119"/>
          <p:cNvGrpSpPr/>
          <p:nvPr/>
        </p:nvGrpSpPr>
        <p:grpSpPr>
          <a:xfrm>
            <a:off x="8217000" y="5562720"/>
            <a:ext cx="917640" cy="757080"/>
            <a:chOff x="8217000" y="5562720"/>
            <a:chExt cx="917640" cy="757080"/>
          </a:xfrm>
        </p:grpSpPr>
        <p:sp>
          <p:nvSpPr>
            <p:cNvPr id="275" name="Rectangle 108"/>
            <p:cNvSpPr/>
            <p:nvPr/>
          </p:nvSpPr>
          <p:spPr>
            <a:xfrm>
              <a:off x="8435880" y="607860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276" name="Rectangle 109"/>
            <p:cNvSpPr/>
            <p:nvPr/>
          </p:nvSpPr>
          <p:spPr>
            <a:xfrm>
              <a:off x="8217000" y="5562720"/>
              <a:ext cx="24120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277" name="Rectangle 110"/>
            <p:cNvSpPr/>
            <p:nvPr/>
          </p:nvSpPr>
          <p:spPr>
            <a:xfrm>
              <a:off x="8893080" y="556272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</p:grpSp>
      <p:sp>
        <p:nvSpPr>
          <p:cNvPr id="278" name="Text Box 126"/>
          <p:cNvSpPr/>
          <p:nvPr/>
        </p:nvSpPr>
        <p:spPr>
          <a:xfrm>
            <a:off x="8153280" y="649116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d7181f"/>
                </a:solidFill>
                <a:latin typeface="Arial Black"/>
                <a:ea typeface="宋体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79" name="Rectangle 129"/>
          <p:cNvSpPr/>
          <p:nvPr/>
        </p:nvSpPr>
        <p:spPr>
          <a:xfrm>
            <a:off x="0" y="5970600"/>
            <a:ext cx="669960" cy="88740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80" name="Rectangle 130"/>
          <p:cNvSpPr/>
          <p:nvPr/>
        </p:nvSpPr>
        <p:spPr>
          <a:xfrm>
            <a:off x="7848720" y="0"/>
            <a:ext cx="1295280" cy="8874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81" name="Line 133"/>
          <p:cNvSpPr/>
          <p:nvPr/>
        </p:nvSpPr>
        <p:spPr>
          <a:xfrm>
            <a:off x="0" y="89532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82" name="Line 132"/>
          <p:cNvSpPr/>
          <p:nvPr/>
        </p:nvSpPr>
        <p:spPr>
          <a:xfrm>
            <a:off x="66996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83" name="Line 134"/>
          <p:cNvSpPr/>
          <p:nvPr/>
        </p:nvSpPr>
        <p:spPr>
          <a:xfrm>
            <a:off x="784224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84" name="Line 135"/>
          <p:cNvSpPr/>
          <p:nvPr/>
        </p:nvSpPr>
        <p:spPr>
          <a:xfrm>
            <a:off x="9360" y="5967360"/>
            <a:ext cx="641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e08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1b6d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 type="dt" idx="14"/>
          </p:nvPr>
        </p:nvSpPr>
        <p:spPr>
          <a:xfrm>
            <a:off x="33523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 type="ftr" idx="15"/>
          </p:nvPr>
        </p:nvSpPr>
        <p:spPr>
          <a:xfrm>
            <a:off x="6232320" y="6546600"/>
            <a:ext cx="20826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 type="sldNum" idx="16"/>
          </p:nvPr>
        </p:nvSpPr>
        <p:spPr>
          <a:xfrm>
            <a:off x="1519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8F29F-F0CD-45FC-B326-60BA5273AB07}" type="slidenum">
              <a:rPr b="0" lang="zh-CN" sz="10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122"/>
          <p:cNvSpPr/>
          <p:nvPr/>
        </p:nvSpPr>
        <p:spPr>
          <a:xfrm>
            <a:off x="666720" y="0"/>
            <a:ext cx="8477280" cy="890640"/>
          </a:xfrm>
          <a:prstGeom prst="rect">
            <a:avLst/>
          </a:prstGeom>
          <a:solidFill>
            <a:srgbClr val="9bbd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27" name="Rectangle 127"/>
          <p:cNvSpPr/>
          <p:nvPr/>
        </p:nvSpPr>
        <p:spPr>
          <a:xfrm>
            <a:off x="1440" y="895320"/>
            <a:ext cx="669960" cy="5089680"/>
          </a:xfrm>
          <a:prstGeom prst="rect">
            <a:avLst/>
          </a:prstGeom>
          <a:solidFill>
            <a:srgbClr val="bdd0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28" name="Rectangle 121"/>
          <p:cNvSpPr/>
          <p:nvPr/>
        </p:nvSpPr>
        <p:spPr>
          <a:xfrm>
            <a:off x="0" y="0"/>
            <a:ext cx="665280" cy="89064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grpSp>
        <p:nvGrpSpPr>
          <p:cNvPr id="329" name="Group 119"/>
          <p:cNvGrpSpPr/>
          <p:nvPr/>
        </p:nvGrpSpPr>
        <p:grpSpPr>
          <a:xfrm>
            <a:off x="8217000" y="5562720"/>
            <a:ext cx="917640" cy="757080"/>
            <a:chOff x="8217000" y="5562720"/>
            <a:chExt cx="917640" cy="757080"/>
          </a:xfrm>
        </p:grpSpPr>
        <p:sp>
          <p:nvSpPr>
            <p:cNvPr id="330" name="Rectangle 108"/>
            <p:cNvSpPr/>
            <p:nvPr/>
          </p:nvSpPr>
          <p:spPr>
            <a:xfrm>
              <a:off x="8435880" y="607860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331" name="Rectangle 109"/>
            <p:cNvSpPr/>
            <p:nvPr/>
          </p:nvSpPr>
          <p:spPr>
            <a:xfrm>
              <a:off x="8217000" y="5562720"/>
              <a:ext cx="24120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332" name="Rectangle 110"/>
            <p:cNvSpPr/>
            <p:nvPr/>
          </p:nvSpPr>
          <p:spPr>
            <a:xfrm>
              <a:off x="8893080" y="556272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</p:grpSp>
      <p:sp>
        <p:nvSpPr>
          <p:cNvPr id="333" name="Text Box 126"/>
          <p:cNvSpPr/>
          <p:nvPr/>
        </p:nvSpPr>
        <p:spPr>
          <a:xfrm>
            <a:off x="8153280" y="649116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d7181f"/>
                </a:solidFill>
                <a:latin typeface="Arial Black"/>
                <a:ea typeface="宋体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34" name="Rectangle 129"/>
          <p:cNvSpPr/>
          <p:nvPr/>
        </p:nvSpPr>
        <p:spPr>
          <a:xfrm>
            <a:off x="0" y="5970600"/>
            <a:ext cx="669960" cy="88740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35" name="Rectangle 130"/>
          <p:cNvSpPr/>
          <p:nvPr/>
        </p:nvSpPr>
        <p:spPr>
          <a:xfrm>
            <a:off x="7848720" y="0"/>
            <a:ext cx="1295280" cy="8874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36" name="Line 133"/>
          <p:cNvSpPr/>
          <p:nvPr/>
        </p:nvSpPr>
        <p:spPr>
          <a:xfrm>
            <a:off x="0" y="89532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37" name="Line 132"/>
          <p:cNvSpPr/>
          <p:nvPr/>
        </p:nvSpPr>
        <p:spPr>
          <a:xfrm>
            <a:off x="66996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38" name="Line 134"/>
          <p:cNvSpPr/>
          <p:nvPr/>
        </p:nvSpPr>
        <p:spPr>
          <a:xfrm>
            <a:off x="784224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39" name="Line 135"/>
          <p:cNvSpPr/>
          <p:nvPr/>
        </p:nvSpPr>
        <p:spPr>
          <a:xfrm>
            <a:off x="9360" y="5967360"/>
            <a:ext cx="641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e08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1b6d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dt" idx="17"/>
          </p:nvPr>
        </p:nvSpPr>
        <p:spPr>
          <a:xfrm>
            <a:off x="33523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 type="ftr" idx="18"/>
          </p:nvPr>
        </p:nvSpPr>
        <p:spPr>
          <a:xfrm>
            <a:off x="6232320" y="6546600"/>
            <a:ext cx="20826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 type="sldNum" idx="19"/>
          </p:nvPr>
        </p:nvSpPr>
        <p:spPr>
          <a:xfrm>
            <a:off x="1519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23FF2-A20F-49D1-807B-E88846AC70B5}" type="slidenum">
              <a:rPr b="0" lang="zh-CN" sz="10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122"/>
          <p:cNvSpPr/>
          <p:nvPr/>
        </p:nvSpPr>
        <p:spPr>
          <a:xfrm>
            <a:off x="666720" y="0"/>
            <a:ext cx="8477280" cy="890640"/>
          </a:xfrm>
          <a:prstGeom prst="rect">
            <a:avLst/>
          </a:prstGeom>
          <a:solidFill>
            <a:srgbClr val="9bbd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82" name="Rectangle 127"/>
          <p:cNvSpPr/>
          <p:nvPr/>
        </p:nvSpPr>
        <p:spPr>
          <a:xfrm>
            <a:off x="1440" y="895320"/>
            <a:ext cx="669960" cy="5089680"/>
          </a:xfrm>
          <a:prstGeom prst="rect">
            <a:avLst/>
          </a:prstGeom>
          <a:solidFill>
            <a:srgbClr val="bdd0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83" name="Rectangle 121"/>
          <p:cNvSpPr/>
          <p:nvPr/>
        </p:nvSpPr>
        <p:spPr>
          <a:xfrm>
            <a:off x="0" y="0"/>
            <a:ext cx="665280" cy="89064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grpSp>
        <p:nvGrpSpPr>
          <p:cNvPr id="384" name="Group 119"/>
          <p:cNvGrpSpPr/>
          <p:nvPr/>
        </p:nvGrpSpPr>
        <p:grpSpPr>
          <a:xfrm>
            <a:off x="8217000" y="5562720"/>
            <a:ext cx="917640" cy="757080"/>
            <a:chOff x="8217000" y="5562720"/>
            <a:chExt cx="917640" cy="757080"/>
          </a:xfrm>
        </p:grpSpPr>
        <p:sp>
          <p:nvSpPr>
            <p:cNvPr id="385" name="Rectangle 108"/>
            <p:cNvSpPr/>
            <p:nvPr/>
          </p:nvSpPr>
          <p:spPr>
            <a:xfrm>
              <a:off x="8435880" y="607860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386" name="Rectangle 109"/>
            <p:cNvSpPr/>
            <p:nvPr/>
          </p:nvSpPr>
          <p:spPr>
            <a:xfrm>
              <a:off x="8217000" y="5562720"/>
              <a:ext cx="24120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387" name="Rectangle 110"/>
            <p:cNvSpPr/>
            <p:nvPr/>
          </p:nvSpPr>
          <p:spPr>
            <a:xfrm>
              <a:off x="8893080" y="556272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</p:grpSp>
      <p:sp>
        <p:nvSpPr>
          <p:cNvPr id="388" name="Text Box 126"/>
          <p:cNvSpPr/>
          <p:nvPr/>
        </p:nvSpPr>
        <p:spPr>
          <a:xfrm>
            <a:off x="8153280" y="649116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d7181f"/>
                </a:solidFill>
                <a:latin typeface="Arial Black"/>
                <a:ea typeface="宋体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89" name="Rectangle 129"/>
          <p:cNvSpPr/>
          <p:nvPr/>
        </p:nvSpPr>
        <p:spPr>
          <a:xfrm>
            <a:off x="0" y="5970600"/>
            <a:ext cx="669960" cy="88740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90" name="Rectangle 130"/>
          <p:cNvSpPr/>
          <p:nvPr/>
        </p:nvSpPr>
        <p:spPr>
          <a:xfrm>
            <a:off x="7848720" y="0"/>
            <a:ext cx="1295280" cy="8874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91" name="Line 133"/>
          <p:cNvSpPr/>
          <p:nvPr/>
        </p:nvSpPr>
        <p:spPr>
          <a:xfrm>
            <a:off x="0" y="89532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92" name="Line 132"/>
          <p:cNvSpPr/>
          <p:nvPr/>
        </p:nvSpPr>
        <p:spPr>
          <a:xfrm>
            <a:off x="66996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93" name="Line 134"/>
          <p:cNvSpPr/>
          <p:nvPr/>
        </p:nvSpPr>
        <p:spPr>
          <a:xfrm>
            <a:off x="784224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94" name="Line 135"/>
          <p:cNvSpPr/>
          <p:nvPr/>
        </p:nvSpPr>
        <p:spPr>
          <a:xfrm>
            <a:off x="9360" y="5967360"/>
            <a:ext cx="641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e08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1b6d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 type="dt" idx="20"/>
          </p:nvPr>
        </p:nvSpPr>
        <p:spPr>
          <a:xfrm>
            <a:off x="33523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 type="ftr" idx="21"/>
          </p:nvPr>
        </p:nvSpPr>
        <p:spPr>
          <a:xfrm>
            <a:off x="6232320" y="6546600"/>
            <a:ext cx="20826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 type="sldNum" idx="22"/>
          </p:nvPr>
        </p:nvSpPr>
        <p:spPr>
          <a:xfrm>
            <a:off x="1519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4CEFD-189D-4F84-B59F-E9FC3E3F3646}" type="slidenum">
              <a:rPr b="0" lang="zh-CN" sz="10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122"/>
          <p:cNvSpPr/>
          <p:nvPr/>
        </p:nvSpPr>
        <p:spPr>
          <a:xfrm>
            <a:off x="666720" y="0"/>
            <a:ext cx="8477280" cy="890640"/>
          </a:xfrm>
          <a:prstGeom prst="rect">
            <a:avLst/>
          </a:prstGeom>
          <a:solidFill>
            <a:srgbClr val="9bbd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437" name="Rectangle 127"/>
          <p:cNvSpPr/>
          <p:nvPr/>
        </p:nvSpPr>
        <p:spPr>
          <a:xfrm>
            <a:off x="1440" y="895320"/>
            <a:ext cx="669960" cy="5089680"/>
          </a:xfrm>
          <a:prstGeom prst="rect">
            <a:avLst/>
          </a:prstGeom>
          <a:solidFill>
            <a:srgbClr val="bdd0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438" name="Rectangle 121"/>
          <p:cNvSpPr/>
          <p:nvPr/>
        </p:nvSpPr>
        <p:spPr>
          <a:xfrm>
            <a:off x="0" y="0"/>
            <a:ext cx="665280" cy="89064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grpSp>
        <p:nvGrpSpPr>
          <p:cNvPr id="439" name="Group 119"/>
          <p:cNvGrpSpPr/>
          <p:nvPr/>
        </p:nvGrpSpPr>
        <p:grpSpPr>
          <a:xfrm>
            <a:off x="8217000" y="5562720"/>
            <a:ext cx="917640" cy="757080"/>
            <a:chOff x="8217000" y="5562720"/>
            <a:chExt cx="917640" cy="757080"/>
          </a:xfrm>
        </p:grpSpPr>
        <p:sp>
          <p:nvSpPr>
            <p:cNvPr id="440" name="Rectangle 108"/>
            <p:cNvSpPr/>
            <p:nvPr/>
          </p:nvSpPr>
          <p:spPr>
            <a:xfrm>
              <a:off x="8435880" y="607860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441" name="Rectangle 109"/>
            <p:cNvSpPr/>
            <p:nvPr/>
          </p:nvSpPr>
          <p:spPr>
            <a:xfrm>
              <a:off x="8217000" y="5562720"/>
              <a:ext cx="24120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442" name="Rectangle 110"/>
            <p:cNvSpPr/>
            <p:nvPr/>
          </p:nvSpPr>
          <p:spPr>
            <a:xfrm>
              <a:off x="8893080" y="556272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</p:grpSp>
      <p:sp>
        <p:nvSpPr>
          <p:cNvPr id="443" name="Text Box 126"/>
          <p:cNvSpPr/>
          <p:nvPr/>
        </p:nvSpPr>
        <p:spPr>
          <a:xfrm>
            <a:off x="8153280" y="649116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d7181f"/>
                </a:solidFill>
                <a:latin typeface="Arial Black"/>
                <a:ea typeface="宋体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444" name="Rectangle 129"/>
          <p:cNvSpPr/>
          <p:nvPr/>
        </p:nvSpPr>
        <p:spPr>
          <a:xfrm>
            <a:off x="0" y="5970600"/>
            <a:ext cx="669960" cy="88740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445" name="Rectangle 130"/>
          <p:cNvSpPr/>
          <p:nvPr/>
        </p:nvSpPr>
        <p:spPr>
          <a:xfrm>
            <a:off x="7848720" y="0"/>
            <a:ext cx="1295280" cy="8874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446" name="Line 133"/>
          <p:cNvSpPr/>
          <p:nvPr/>
        </p:nvSpPr>
        <p:spPr>
          <a:xfrm>
            <a:off x="0" y="89532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447" name="Line 132"/>
          <p:cNvSpPr/>
          <p:nvPr/>
        </p:nvSpPr>
        <p:spPr>
          <a:xfrm>
            <a:off x="66996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448" name="Line 134"/>
          <p:cNvSpPr/>
          <p:nvPr/>
        </p:nvSpPr>
        <p:spPr>
          <a:xfrm>
            <a:off x="784224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449" name="Line 135"/>
          <p:cNvSpPr/>
          <p:nvPr/>
        </p:nvSpPr>
        <p:spPr>
          <a:xfrm>
            <a:off x="9360" y="5967360"/>
            <a:ext cx="641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e08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1b6d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 type="dt" idx="23"/>
          </p:nvPr>
        </p:nvSpPr>
        <p:spPr>
          <a:xfrm>
            <a:off x="33523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 type="ftr" idx="24"/>
          </p:nvPr>
        </p:nvSpPr>
        <p:spPr>
          <a:xfrm>
            <a:off x="6232320" y="6546600"/>
            <a:ext cx="20826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 type="sldNum" idx="25"/>
          </p:nvPr>
        </p:nvSpPr>
        <p:spPr>
          <a:xfrm>
            <a:off x="1519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DC918-B2AA-42D7-8328-78F380B2CAD5}" type="slidenum">
              <a:rPr b="0" lang="zh-CN" sz="10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5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8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image" Target="../media/image11.jpeg"/><Relationship Id="rId5" Type="http://schemas.openxmlformats.org/officeDocument/2006/relationships/image" Target="../media/image12.png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2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&amp;tn=baiduimagedetail&amp;word=&#1057;%B6%F9%B7%CE%D1&#1530;%F4%CE%FC%C0%A7%C4%D1&amp;in=10775&amp;cl=2&amp;lm=-1&amp;pn=268&amp;rn=1&amp;di=21061037910&amp;ln=1813&amp;fr=&amp;fmq=&amp;ic=0&amp;s=2&amp;se=1&amp;sme=0&amp;tab=&amp;width=&amp;height=&amp;face=0&amp;is=&amp;istype=2" TargetMode="External"/><Relationship Id="rId2" Type="http://schemas.openxmlformats.org/officeDocument/2006/relationships/image" Target="../media/image14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5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5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779400" y="691920"/>
            <a:ext cx="84297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第九章 呼吸系统疾病患儿的护理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 type="subTitle"/>
          </p:nvPr>
        </p:nvSpPr>
        <p:spPr>
          <a:xfrm>
            <a:off x="5105520" y="6477120"/>
            <a:ext cx="4038480" cy="30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宋体"/>
              </a:rPr>
              <a:t>www.themegallery.com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5" name="Rectangle 13"/>
          <p:cNvSpPr/>
          <p:nvPr/>
        </p:nvSpPr>
        <p:spPr>
          <a:xfrm>
            <a:off x="1403280" y="1700280"/>
            <a:ext cx="1224000" cy="360360"/>
          </a:xfrm>
          <a:prstGeom prst="rect">
            <a:avLst/>
          </a:prstGeom>
          <a:solidFill>
            <a:srgbClr val="dcdcdc"/>
          </a:solidFill>
          <a:ln w="936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66" name="Rectangle 14"/>
          <p:cNvSpPr/>
          <p:nvPr/>
        </p:nvSpPr>
        <p:spPr>
          <a:xfrm>
            <a:off x="6516720" y="6381720"/>
            <a:ext cx="262728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67" name="Text Box 15"/>
          <p:cNvSpPr/>
          <p:nvPr/>
        </p:nvSpPr>
        <p:spPr>
          <a:xfrm>
            <a:off x="4394880" y="5445000"/>
            <a:ext cx="246816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ff"/>
                </a:solidFill>
                <a:latin typeface="Arial"/>
                <a:ea typeface="宋体"/>
              </a:rPr>
              <a:t>内蒙古医科大学附属医院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ff"/>
                </a:solidFill>
                <a:latin typeface="Arial"/>
                <a:ea typeface="宋体"/>
              </a:rPr>
              <a:t>                           </a:t>
            </a:r>
            <a:r>
              <a:rPr b="0" lang="zh-CN" sz="2000" spc="-1" strike="noStrike">
                <a:solidFill>
                  <a:srgbClr val="ff00ff"/>
                </a:solidFill>
                <a:latin typeface="Arial"/>
                <a:ea typeface="宋体"/>
              </a:rPr>
              <a:t>王继春</a:t>
            </a:r>
            <a:endParaRPr b="0" lang="en-US" sz="20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668" name="图片 6" descr=""/>
          <p:cNvPicPr/>
          <p:nvPr/>
        </p:nvPicPr>
        <p:blipFill>
          <a:blip r:embed="rId1"/>
          <a:stretch/>
        </p:blipFill>
        <p:spPr>
          <a:xfrm>
            <a:off x="5724360" y="0"/>
            <a:ext cx="3419640" cy="836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971280" y="0"/>
            <a:ext cx="2313000" cy="836640"/>
          </a:xfrm>
          <a:prstGeom prst="rect">
            <a:avLst/>
          </a:prstGeom>
          <a:solidFill>
            <a:srgbClr val="9bbd98"/>
          </a:solidFill>
          <a:ln w="9360">
            <a:solidFill>
              <a:srgbClr val="9bbd98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62699"/>
                </a:solidFill>
                <a:latin typeface="楷体"/>
                <a:ea typeface="楷体"/>
              </a:rPr>
              <a:t>解剖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4" name="TextBox 7"/>
          <p:cNvSpPr/>
          <p:nvPr/>
        </p:nvSpPr>
        <p:spPr>
          <a:xfrm>
            <a:off x="500040" y="1989000"/>
            <a:ext cx="8464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</a:rPr>
              <a:t>胸廓：</a:t>
            </a:r>
            <a:endParaRPr b="0" lang="en-US" sz="28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</a:rPr>
              <a:t>桶状、肋骨平、膈肌高、胸腔小、呼吸肌弱、纵隔大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05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1042920" y="907560"/>
            <a:ext cx="7718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健康史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身体状况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心理</a:t>
            </a:r>
            <a:r>
              <a:rPr b="0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社会状况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6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20" dur="indefinite" restart="never" nodeType="tmRoot">
          <p:childTnLst>
            <p:seq>
              <p:cTn id="1321" dur="indefinite" nodeType="mainSeq">
                <p:childTnLst>
                  <p:par>
                    <p:cTn id="1322" nodeType="clickEffect" fill="hold">
                      <p:stCondLst>
                        <p:cond delay="indefinite"/>
                      </p:stCondLst>
                      <p:childTnLst>
                        <p:par>
                          <p:cTn id="1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2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2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55280" y="159984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低效性呼吸型态 与支气管痉挛、黏膜水肿及支气管分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泌物增加有关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清理呼吸道无效 与呼吸道分泌物黏稠，体弱无力排痰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有关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潜在并发症：呼吸衰竭、心力衰竭等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焦虑  与呼吸困难、环境改变、哮喘反复发作有            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关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知识缺乏  患儿及家长缺乏有关哮喘的防护知识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9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30" dur="indefinite" restart="never" nodeType="tmRoot">
          <p:childTnLst>
            <p:seq>
              <p:cTn id="1331" dur="indefinite" nodeType="mainSeq">
                <p:childTnLst>
                  <p:par>
                    <p:cTn id="1332" nodeType="clickEffect" fill="hold">
                      <p:stCondLst>
                        <p:cond delay="indefinite"/>
                      </p:stCondLst>
                      <p:childTnLst>
                        <p:par>
                          <p:cTn id="1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3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3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684000" y="1628640"/>
            <a:ext cx="828036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一般护理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心理护理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病情观察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62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40" dur="indefinite" restart="never" nodeType="tmRoot">
          <p:childTnLst>
            <p:seq>
              <p:cTn id="1341" dur="indefinite" nodeType="mainSeq">
                <p:childTnLst>
                  <p:par>
                    <p:cTn id="1342" nodeType="clickEffect" fill="hold">
                      <p:stCondLst>
                        <p:cond delay="indefinite"/>
                      </p:stCondLst>
                      <p:childTnLst>
                        <p:par>
                          <p:cTn id="1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4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4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684000" y="1267920"/>
            <a:ext cx="835164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"/>
              </a:rPr>
              <a:t>对症护理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置患儿于舒适坐位、半卧位或抬高头肩，指导和鼓励患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儿做深而慢的呼吸运动，改善呼吸困难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鼻导管或面罩吸氧，以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0.5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L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／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min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的流量持续吸氧，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注意湿化氧气，定时进行动脉血气分析，及时调整氧流量，使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Pa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保持在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70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90mmHg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给予雾化吸入、胸部叩击，以促进分泌物的排出，也可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采用体位引流以协助患儿排痰，必要时吸痰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楷体"/>
              </a:rPr>
              <a:t>4.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遵医嘱给予支气管扩张剂和肾上腺皮质激素，注意观察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疗效和副作用。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65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50" dur="indefinite" restart="never" nodeType="tmRoot">
          <p:childTnLst>
            <p:seq>
              <p:cTn id="1351" dur="indefinite" nodeType="mainSeq">
                <p:childTnLst>
                  <p:par>
                    <p:cTn id="1352" nodeType="clickEffect" fill="hold">
                      <p:stCondLst>
                        <p:cond delay="indefinite"/>
                      </p:stCondLst>
                      <p:childTnLst>
                        <p:par>
                          <p:cTn id="1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5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5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684000" y="1267920"/>
            <a:ext cx="845964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"/>
              </a:rPr>
              <a:t>健康教育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指导患儿及家长识别并避免诱发哮喘的因素，如花粉、粉尘、鱼虾、寒冷刺激等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增强体质，预防呼吸道感染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指导正确用药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4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指导并鼓励做呼吸功能锻炼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5.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提供出院时需要使用的药物资料，如服药方法、注意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事项、不良反应等，强调坚持门诊随访的重要性。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68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60" dur="indefinite" restart="never" nodeType="tmRoot">
          <p:childTnLst>
            <p:seq>
              <p:cTn id="1361" dur="indefinite" nodeType="mainSeq">
                <p:childTnLst>
                  <p:par>
                    <p:cTn id="1362" nodeType="clickEffect" fill="hold">
                      <p:stCondLst>
                        <p:cond delay="indefinite"/>
                      </p:stCondLst>
                      <p:childTnLst>
                        <p:par>
                          <p:cTn id="1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6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6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subTitle"/>
          </p:nvPr>
        </p:nvSpPr>
        <p:spPr>
          <a:xfrm>
            <a:off x="5105520" y="6476760"/>
            <a:ext cx="3962160" cy="22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宋体"/>
              </a:rPr>
              <a:t>www.themegallery.com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0" name="Rectangle 5"/>
          <p:cNvSpPr/>
          <p:nvPr/>
        </p:nvSpPr>
        <p:spPr>
          <a:xfrm>
            <a:off x="1403280" y="1557360"/>
            <a:ext cx="1152720" cy="503280"/>
          </a:xfrm>
          <a:prstGeom prst="rect">
            <a:avLst/>
          </a:prstGeom>
          <a:solidFill>
            <a:srgbClr val="dcdcdc"/>
          </a:solidFill>
          <a:ln w="936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071" name="Rectangle 6"/>
          <p:cNvSpPr/>
          <p:nvPr/>
        </p:nvSpPr>
        <p:spPr>
          <a:xfrm>
            <a:off x="6659640" y="6381720"/>
            <a:ext cx="248436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072" name="Text Box 7"/>
          <p:cNvSpPr/>
          <p:nvPr/>
        </p:nvSpPr>
        <p:spPr>
          <a:xfrm>
            <a:off x="0" y="549360"/>
            <a:ext cx="536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66"/>
                </a:solidFill>
                <a:latin typeface="Times New Roman"/>
                <a:ea typeface="Arial Unicode MS"/>
              </a:rPr>
              <a:t>Thank you for your attention!</a:t>
            </a:r>
            <a:endParaRPr b="0" lang="en-US" sz="48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1073" name="图片 5" descr=""/>
          <p:cNvPicPr/>
          <p:nvPr/>
        </p:nvPicPr>
        <p:blipFill>
          <a:blip r:embed="rId1"/>
          <a:stretch/>
        </p:blipFill>
        <p:spPr>
          <a:xfrm>
            <a:off x="6659640" y="0"/>
            <a:ext cx="2484360" cy="83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1042560" y="1196640"/>
            <a:ext cx="6991560" cy="442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频率节律：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年龄越小频率越大，易节律不齐。</a:t>
            </a:r>
            <a:br>
              <a:rPr sz="2400"/>
            </a:br>
            <a:br>
              <a:rPr sz="2400"/>
            </a:b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呼吸型态：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腹膈式呼吸。</a:t>
            </a:r>
            <a:br>
              <a:rPr sz="2400"/>
            </a:br>
            <a:br>
              <a:rPr sz="2400"/>
            </a:b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呼吸功能：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各项指标储备力低、气道阻力大。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7" name="TextBox 4"/>
          <p:cNvSpPr/>
          <p:nvPr/>
        </p:nvSpPr>
        <p:spPr>
          <a:xfrm>
            <a:off x="900000" y="189000"/>
            <a:ext cx="2448000" cy="581400"/>
          </a:xfrm>
          <a:prstGeom prst="rect">
            <a:avLst/>
          </a:prstGeom>
          <a:solidFill>
            <a:srgbClr val="9bbd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62699"/>
                </a:solidFill>
                <a:latin typeface="楷体"/>
              </a:rPr>
              <a:t>生理特点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08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/>
          </p:nvPr>
        </p:nvSpPr>
        <p:spPr>
          <a:xfrm>
            <a:off x="571320" y="1499760"/>
            <a:ext cx="810396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特异性、非特异性免疫功能均差</a:t>
            </a:r>
            <a:r>
              <a:rPr b="0" lang="en-US" sz="2800" spc="-1" strike="noStrike">
                <a:solidFill>
                  <a:srgbClr val="ff0000"/>
                </a:solidFill>
                <a:latin typeface="楷体"/>
                <a:ea typeface="楷体"/>
              </a:rPr>
              <a:t>: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eee08e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咳嗽反射弱、平滑肌薄、纤毛运动差；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eee08e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SIgA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IgG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及亚类含量低；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eee08e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巨噬细胞、乳铁蛋白、溶菌酶、干扰素、补体等均不足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0" name="TextBox 5"/>
          <p:cNvSpPr/>
          <p:nvPr/>
        </p:nvSpPr>
        <p:spPr>
          <a:xfrm>
            <a:off x="1042920" y="189000"/>
            <a:ext cx="2233800" cy="581400"/>
          </a:xfrm>
          <a:prstGeom prst="rect">
            <a:avLst/>
          </a:prstGeom>
          <a:solidFill>
            <a:srgbClr val="9bbd98"/>
          </a:solidFill>
          <a:ln w="9360">
            <a:solidFill>
              <a:srgbClr val="9bbd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62699"/>
                </a:solidFill>
                <a:latin typeface="Times New Roman"/>
              </a:rPr>
              <a:t>免疫特点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11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1115640" y="189000"/>
            <a:ext cx="2376360" cy="576000"/>
          </a:xfrm>
          <a:prstGeom prst="rect">
            <a:avLst/>
          </a:prstGeom>
          <a:solidFill>
            <a:srgbClr val="9bbd98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62699"/>
                </a:solidFill>
                <a:latin typeface="楷体"/>
                <a:ea typeface="楷体"/>
              </a:rPr>
              <a:t>检查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785880" y="1557360"/>
            <a:ext cx="77724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  <a:ea typeface="楷体_GB2312"/>
              </a:rPr>
              <a:t>  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体格检查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血气分析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肺影像学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支气管镜检查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肺功能检查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14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1042560" y="189000"/>
            <a:ext cx="2592360" cy="576000"/>
          </a:xfrm>
          <a:prstGeom prst="rect">
            <a:avLst/>
          </a:prstGeom>
          <a:solidFill>
            <a:srgbClr val="9bbd98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62699"/>
                </a:solidFill>
                <a:latin typeface="楷体"/>
                <a:ea typeface="楷体"/>
              </a:rPr>
              <a:t>检查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6" name="TextBox 4"/>
          <p:cNvSpPr/>
          <p:nvPr/>
        </p:nvSpPr>
        <p:spPr>
          <a:xfrm>
            <a:off x="971640" y="1571760"/>
            <a:ext cx="64580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体格检查</a:t>
            </a:r>
            <a:endParaRPr b="0" lang="en-US" sz="28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呼吸频率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发绀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吸气时胸廓凹陷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吸气喘鸣、呼气喘息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肺部体征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其他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17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2303640" cy="647640"/>
          </a:xfrm>
          <a:prstGeom prst="rect">
            <a:avLst/>
          </a:prstGeom>
          <a:solidFill>
            <a:srgbClr val="9bbd98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62699"/>
                </a:solidFill>
                <a:latin typeface="楷体"/>
                <a:ea typeface="楷体"/>
              </a:rPr>
              <a:t>检查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9" name="TextBox 4"/>
          <p:cNvSpPr/>
          <p:nvPr/>
        </p:nvSpPr>
        <p:spPr>
          <a:xfrm>
            <a:off x="2411280" y="1125360"/>
            <a:ext cx="41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"/>
              </a:rPr>
              <a:t>  </a:t>
            </a:r>
            <a:r>
              <a:rPr b="1" lang="zh-CN" sz="2800" spc="-1" strike="noStrike">
                <a:solidFill>
                  <a:srgbClr val="333399"/>
                </a:solidFill>
                <a:latin typeface="楷体"/>
              </a:rPr>
              <a:t>小儿血气分析正常值</a:t>
            </a:r>
            <a:endParaRPr b="0" lang="en-US" sz="2800" spc="-1" strike="noStrike">
              <a:solidFill>
                <a:srgbClr val="000000"/>
              </a:solidFill>
              <a:latin typeface="楷体"/>
            </a:endParaRPr>
          </a:p>
        </p:txBody>
      </p:sp>
      <p:graphicFrame>
        <p:nvGraphicFramePr>
          <p:cNvPr id="720" name=""/>
          <p:cNvGraphicFramePr/>
          <p:nvPr/>
        </p:nvGraphicFramePr>
        <p:xfrm>
          <a:off x="324000" y="2421000"/>
          <a:ext cx="8643960" cy="3892320"/>
        </p:xfrm>
        <a:graphic>
          <a:graphicData uri="http://schemas.openxmlformats.org/drawingml/2006/table">
            <a:tbl>
              <a:tblPr/>
              <a:tblGrid>
                <a:gridCol w="1726920"/>
                <a:gridCol w="2376720"/>
                <a:gridCol w="2379600"/>
                <a:gridCol w="2160720"/>
              </a:tblGrid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项 目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d9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新  生 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d9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2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d9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&gt;2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d98"/>
                    </a:solidFill>
                  </a:tcPr>
                </a:tc>
              </a:tr>
              <a:tr h="55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p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7.30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7.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7.30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7.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7.35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7.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PaO</a:t>
                      </a:r>
                      <a:r>
                        <a:rPr b="1" lang="en-US" sz="1600" spc="-1" strike="noStrike" baseline="-25000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60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80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80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PaCO</a:t>
                      </a:r>
                      <a:r>
                        <a:rPr b="1" lang="en-US" sz="1600" spc="-1" strike="noStrike" baseline="-25000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30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30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35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52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HCO</a:t>
                      </a:r>
                      <a:r>
                        <a:rPr b="1" lang="en-US" sz="1600" spc="-1" strike="noStrike" baseline="-25000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3</a:t>
                      </a:r>
                      <a:r>
                        <a:rPr b="1" lang="en-US" sz="1600" spc="-1" strike="noStrike" baseline="30000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20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20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22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18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B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SaO</a:t>
                      </a:r>
                      <a:r>
                        <a:rPr b="1" lang="en-US" sz="1600" spc="-1" strike="noStrike" baseline="-25000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-6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+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90%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96.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-6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+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95%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97.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-4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+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95%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97.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</a:tbl>
          </a:graphicData>
        </a:graphic>
      </p:graphicFrame>
      <p:sp>
        <p:nvSpPr>
          <p:cNvPr id="721" name="直接连接符 8"/>
          <p:cNvSpPr/>
          <p:nvPr/>
        </p:nvSpPr>
        <p:spPr>
          <a:xfrm>
            <a:off x="214200" y="5429160"/>
            <a:ext cx="8643960" cy="0"/>
          </a:xfrm>
          <a:prstGeom prst="line">
            <a:avLst/>
          </a:prstGeom>
          <a:ln w="9360">
            <a:solidFill>
              <a:srgbClr val="97ba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22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1187280" y="188640"/>
            <a:ext cx="736632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第二节  急性上呼吸道感染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826560" y="1773360"/>
            <a:ext cx="807732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急性上呼吸道感染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cute upper respiratory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infection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简称上感，“感冒”。小儿最常见疾病。主要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是指鼻、鼻咽和咽部的急性感染。病原体主要侵犯鼻、咽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扁桃体、及喉部引起的炎症。急性鼻炎、鼻窦炎，急性咽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炎、急性扁桃体炎、急性喉炎等。冬春季多见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5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/>
          </p:nvPr>
        </p:nvSpPr>
        <p:spPr>
          <a:xfrm>
            <a:off x="395280" y="1484280"/>
            <a:ext cx="874872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病毒感染：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＞</a:t>
            </a: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90%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如呼吸道合胞病毒、流感病毒、副流感病毒、腺病毒、鼻病毒、柯萨奇病毒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细菌感染：多继发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如溶血性链球菌、肺炎球菌、流感嗜血杆菌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肺炎支原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Text Box 6"/>
          <p:cNvSpPr/>
          <p:nvPr/>
        </p:nvSpPr>
        <p:spPr>
          <a:xfrm>
            <a:off x="1116000" y="189000"/>
            <a:ext cx="201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病 因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28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6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1258560" y="198360"/>
            <a:ext cx="61326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病 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d1b6d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防御机能低：解剖生理和免疫特点，营养不良、佝偻病、贫血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d1b6d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环境因素：通风不良，室内空气污染、冷热失调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d1b6d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护理不当：受寒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31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7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/>
          </p:nvPr>
        </p:nvSpPr>
        <p:spPr>
          <a:xfrm>
            <a:off x="1332000" y="1447920"/>
            <a:ext cx="7345440" cy="450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一般类型上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两种特殊类型上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80000"/>
              </a:lnSpc>
              <a:spcBef>
                <a:spcPts val="601"/>
              </a:spcBef>
              <a:buClr>
                <a:srgbClr val="d1b6dc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疱疹性咽峡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80000"/>
              </a:lnSpc>
              <a:spcBef>
                <a:spcPts val="601"/>
              </a:spcBef>
              <a:buClr>
                <a:srgbClr val="d1b6dc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咽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结合膜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Text Box 6"/>
          <p:cNvSpPr/>
          <p:nvPr/>
        </p:nvSpPr>
        <p:spPr>
          <a:xfrm>
            <a:off x="1187280" y="189000"/>
            <a:ext cx="273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分 类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34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8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页脚占位符 4"/>
          <p:cNvSpPr/>
          <p:nvPr/>
        </p:nvSpPr>
        <p:spPr>
          <a:xfrm>
            <a:off x="6232680" y="6546960"/>
            <a:ext cx="20826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70" name="Text Box 3"/>
          <p:cNvSpPr/>
          <p:nvPr/>
        </p:nvSpPr>
        <p:spPr>
          <a:xfrm>
            <a:off x="1660680" y="722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71" name="Rectangle 49"/>
          <p:cNvSpPr/>
          <p:nvPr/>
        </p:nvSpPr>
        <p:spPr>
          <a:xfrm>
            <a:off x="6227640" y="6381720"/>
            <a:ext cx="291636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72" name="Text Box 51"/>
          <p:cNvSpPr/>
          <p:nvPr/>
        </p:nvSpPr>
        <p:spPr>
          <a:xfrm>
            <a:off x="1258920" y="1125360"/>
            <a:ext cx="74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eee08e"/>
                </a:solidFill>
                <a:latin typeface="宋体"/>
                <a:ea typeface="宋体"/>
              </a:rPr>
              <a:t>一、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673" name="图片 1" descr=""/>
          <p:cNvPicPr/>
          <p:nvPr/>
        </p:nvPicPr>
        <p:blipFill>
          <a:blip r:embed="rId1"/>
          <a:stretch/>
        </p:blipFill>
        <p:spPr>
          <a:xfrm>
            <a:off x="6176880" y="0"/>
            <a:ext cx="2967120" cy="905040"/>
          </a:xfrm>
          <a:prstGeom prst="rect">
            <a:avLst/>
          </a:prstGeom>
          <a:ln w="0">
            <a:noFill/>
          </a:ln>
        </p:spPr>
      </p:pic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1187280" y="0"/>
            <a:ext cx="1944720" cy="84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610920" y="1341000"/>
            <a:ext cx="82818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识记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说出不同病原体所致肺炎的特点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阐述支气管肺炎和支气管哮喘的临床表现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说出定义：疱疹性咽峡炎、咽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-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结合膜热、咳嗽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变异性哮喘、哮喘持续状态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理解</a:t>
            </a: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复述小儿呼吸系统的解剖、生理及免疫特点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说明支气管肺炎的病理生理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解释支气管肺炎、支气管哮喘护理措施的依据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运用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应用护理程序对支气管肺炎、支气管哮喘患儿实     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施护理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对长期吸入治疗的支气管哮喘患儿进行用药指导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/>
          </p:nvPr>
        </p:nvSpPr>
        <p:spPr>
          <a:xfrm>
            <a:off x="178920" y="1628640"/>
            <a:ext cx="853452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症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局部症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全身症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35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"/>
              </a:rPr>
              <a:t>体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Text Box 3"/>
          <p:cNvSpPr/>
          <p:nvPr/>
        </p:nvSpPr>
        <p:spPr>
          <a:xfrm>
            <a:off x="684360" y="189000"/>
            <a:ext cx="50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临床表现 </a:t>
            </a:r>
            <a:r>
              <a:rPr b="1" lang="zh-CN" sz="3200" spc="-1" strike="noStrike">
                <a:solidFill>
                  <a:srgbClr val="333399"/>
                </a:solidFill>
                <a:latin typeface="楷体"/>
              </a:rPr>
              <a:t>（一般）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37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9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/>
          </p:nvPr>
        </p:nvSpPr>
        <p:spPr>
          <a:xfrm>
            <a:off x="611280" y="1267920"/>
            <a:ext cx="795816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lnSpc>
                <a:spcPct val="135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35000"/>
              </a:lnSpc>
              <a:spcBef>
                <a:spcPts val="499"/>
              </a:spcBef>
              <a:buClr>
                <a:srgbClr val="000000"/>
              </a:buClr>
              <a:buFont typeface="楷体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疱疹性咽峡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35000"/>
              </a:lnSpc>
              <a:spcBef>
                <a:spcPts val="499"/>
              </a:spcBef>
              <a:buClr>
                <a:srgbClr val="000000"/>
              </a:buClr>
              <a:buFont typeface="楷体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病原体：</a:t>
            </a:r>
            <a:r>
              <a:rPr b="1" lang="zh-CN" sz="2000" spc="-1" strike="noStrike">
                <a:solidFill>
                  <a:srgbClr val="ff0000"/>
                </a:solidFill>
                <a:latin typeface="楷体"/>
                <a:ea typeface="楷体"/>
              </a:rPr>
              <a:t>柯萨奇</a:t>
            </a:r>
            <a:r>
              <a:rPr b="1" lang="en-US" sz="2000" spc="-1" strike="noStrike">
                <a:solidFill>
                  <a:srgbClr val="ff0000"/>
                </a:solidFill>
                <a:latin typeface="楷体"/>
                <a:ea typeface="楷体"/>
              </a:rPr>
              <a:t>A</a:t>
            </a:r>
            <a:r>
              <a:rPr b="1" lang="zh-CN" sz="2000" spc="-1" strike="noStrike">
                <a:solidFill>
                  <a:srgbClr val="ff0000"/>
                </a:solidFill>
                <a:latin typeface="楷体"/>
                <a:ea typeface="楷体"/>
              </a:rPr>
              <a:t>组病毒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引起，好发于夏秋季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35000"/>
              </a:lnSpc>
              <a:spcBef>
                <a:spcPts val="499"/>
              </a:spcBef>
              <a:buClr>
                <a:srgbClr val="000000"/>
              </a:buClr>
              <a:buFont typeface="楷体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表现：急起高热、咽痛、流涎、厌食、呕吐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35000"/>
              </a:lnSpc>
              <a:spcBef>
                <a:spcPts val="499"/>
              </a:spcBef>
              <a:buClr>
                <a:srgbClr val="000000"/>
              </a:buClr>
              <a:buFont typeface="楷体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体检：咽充血，咽腭弓、腭垂、软腭有疱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35000"/>
              </a:lnSpc>
              <a:spcBef>
                <a:spcPts val="499"/>
              </a:spcBef>
              <a:buClr>
                <a:srgbClr val="000000"/>
              </a:buClr>
              <a:buFont typeface="楷体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病程：</a:t>
            </a:r>
            <a:r>
              <a:rPr b="1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周左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Text Box 6"/>
          <p:cNvSpPr/>
          <p:nvPr/>
        </p:nvSpPr>
        <p:spPr>
          <a:xfrm>
            <a:off x="684360" y="189000"/>
            <a:ext cx="39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临床表现</a:t>
            </a:r>
            <a:r>
              <a:rPr b="1" lang="en-US" sz="3200" spc="-1" strike="noStrike">
                <a:solidFill>
                  <a:srgbClr val="333399"/>
                </a:solidFill>
                <a:latin typeface="楷体"/>
              </a:rPr>
              <a:t>(</a:t>
            </a:r>
            <a:r>
              <a:rPr b="1" lang="zh-CN" sz="3200" spc="-1" strike="noStrike">
                <a:solidFill>
                  <a:srgbClr val="333399"/>
                </a:solidFill>
                <a:latin typeface="楷体"/>
              </a:rPr>
              <a:t>特殊）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40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0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1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1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/>
          </p:nvPr>
        </p:nvSpPr>
        <p:spPr>
          <a:xfrm>
            <a:off x="324000" y="1125000"/>
            <a:ext cx="84960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咽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结合膜热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病原体：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腺病毒（</a:t>
            </a: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3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、</a:t>
            </a: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7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型）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，多发于春夏季，可流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特征性表现：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发热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、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咽炎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、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结合膜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临床表现：高热、咽痛、眼部刺痛、有时伴有消化道症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体格检查：咽部充血、白色点块状分泌物，周边无红晕，易于剥离，一侧或双侧滤泡性眼结合膜炎，可伴球结膜出血颈后及耳后淋巴结肿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病程：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Text Box 6"/>
          <p:cNvSpPr/>
          <p:nvPr/>
        </p:nvSpPr>
        <p:spPr>
          <a:xfrm>
            <a:off x="684360" y="189000"/>
            <a:ext cx="39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临床表现</a:t>
            </a:r>
            <a:r>
              <a:rPr b="1" lang="zh-CN" sz="3200" spc="-1" strike="noStrike">
                <a:solidFill>
                  <a:srgbClr val="333399"/>
                </a:solidFill>
                <a:latin typeface="楷体"/>
              </a:rPr>
              <a:t>（特殊）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43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3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/>
          </p:nvPr>
        </p:nvSpPr>
        <p:spPr>
          <a:xfrm>
            <a:off x="-181080" y="1371600"/>
            <a:ext cx="90741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婴幼儿多见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向邻近器官组织蔓延：可引起中耳炎、鼻窦炎、咽后壁脓肿、扁桃体周围脓肿、颈淋巴结炎、喉炎、支气管炎及肺炎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免疫损伤：可引起急性肾小球肾炎和风湿热、类风湿等结缔组织病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Text Box 4"/>
          <p:cNvSpPr/>
          <p:nvPr/>
        </p:nvSpPr>
        <p:spPr>
          <a:xfrm>
            <a:off x="684360" y="189000"/>
            <a:ext cx="23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并发症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46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7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/>
          </p:nvPr>
        </p:nvSpPr>
        <p:spPr>
          <a:xfrm>
            <a:off x="1042920" y="1447920"/>
            <a:ext cx="76327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一般治疗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对症治疗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抗感染治疗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8" name="Line 4"/>
          <p:cNvSpPr/>
          <p:nvPr/>
        </p:nvSpPr>
        <p:spPr>
          <a:xfrm>
            <a:off x="5029200" y="4876920"/>
            <a:ext cx="609480" cy="0"/>
          </a:xfrm>
          <a:prstGeom prst="line">
            <a:avLst/>
          </a:prstGeom>
          <a:ln w="9360">
            <a:solidFill>
              <a:srgbClr val="eee08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749" name="Text Box 7"/>
          <p:cNvSpPr/>
          <p:nvPr/>
        </p:nvSpPr>
        <p:spPr>
          <a:xfrm>
            <a:off x="684360" y="189000"/>
            <a:ext cx="23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治疗要点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50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8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826920" y="188640"/>
            <a:ext cx="65534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610920" y="1413000"/>
            <a:ext cx="7716600" cy="56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                                                                                                         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3" name="Rectangle 5"/>
          <p:cNvSpPr/>
          <p:nvPr/>
        </p:nvSpPr>
        <p:spPr>
          <a:xfrm>
            <a:off x="1116000" y="1876680"/>
            <a:ext cx="65516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</a:rPr>
              <a:t>健康史 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</a:rPr>
              <a:t>身体状况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</a:rPr>
              <a:t>心理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</a:rPr>
              <a:t>社会状况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54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9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/>
          </p:nvPr>
        </p:nvSpPr>
        <p:spPr>
          <a:xfrm>
            <a:off x="755280" y="1915920"/>
            <a:ext cx="8388360" cy="49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体温过高  与上呼吸道感染有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疼痛：头痛或咽痛  与发热及咽部炎症有关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潜在并发症：惊厥、中耳炎、肾炎或风湿热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Text Box 6"/>
          <p:cNvSpPr/>
          <p:nvPr/>
        </p:nvSpPr>
        <p:spPr>
          <a:xfrm>
            <a:off x="6624720" y="260280"/>
            <a:ext cx="611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757" name="Text Box 7"/>
          <p:cNvSpPr/>
          <p:nvPr/>
        </p:nvSpPr>
        <p:spPr>
          <a:xfrm>
            <a:off x="755640" y="189000"/>
            <a:ext cx="29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护理诊断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58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0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/>
          </p:nvPr>
        </p:nvSpPr>
        <p:spPr>
          <a:xfrm>
            <a:off x="539280" y="1915920"/>
            <a:ext cx="8604360" cy="49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一般护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症状护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发热的护理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鼻塞的护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咽痛的护理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Text Box 7"/>
          <p:cNvSpPr/>
          <p:nvPr/>
        </p:nvSpPr>
        <p:spPr>
          <a:xfrm>
            <a:off x="684360" y="189000"/>
            <a:ext cx="24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护理措施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61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3" dur="20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/>
          </p:nvPr>
        </p:nvSpPr>
        <p:spPr>
          <a:xfrm>
            <a:off x="934560" y="1412640"/>
            <a:ext cx="8209080" cy="40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病情观察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警惕热性惊厥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预防并发症：黏膜皮肤有无皮疹、神经系统症状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传染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咽后壁脓肿时，防止破溃后引起的窒息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Text Box 7"/>
          <p:cNvSpPr/>
          <p:nvPr/>
        </p:nvSpPr>
        <p:spPr>
          <a:xfrm>
            <a:off x="684360" y="189000"/>
            <a:ext cx="30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护理措施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64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0" dur="20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/>
          </p:nvPr>
        </p:nvSpPr>
        <p:spPr>
          <a:xfrm>
            <a:off x="1042920" y="1052280"/>
            <a:ext cx="741672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用药护理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使用退热剂后应注意多饮水，以防大量出汗引起虚脱，如有虚脱现象，应给予保暖、饮热水，严重者给予静脉输液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热性惊厥的患儿使用镇静剂时，应注意观察止惊的效果及药物的不良反应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使用青霉素等抗生素时，应注意观察有无过敏反应发生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6" name="Text Box 3"/>
          <p:cNvSpPr/>
          <p:nvPr/>
        </p:nvSpPr>
        <p:spPr>
          <a:xfrm>
            <a:off x="684360" y="189000"/>
            <a:ext cx="30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护理措施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67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7" dur="20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741672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第一节  小儿呼吸系统解剖生理特点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1042920" y="1557000"/>
            <a:ext cx="741528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解剖特点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生理特点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呼吸道免疫特点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检查方法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78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755280" y="1628280"/>
            <a:ext cx="8077320" cy="540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"/>
              </a:rPr>
              <a:t>健康教育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居室要经常通风，防止被动吸烟；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集体小儿机构中隔离患儿，食醋熏蒸消毒；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避免去人多的公共场所；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合理饮食起居；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母乳喂养，加强体格锻炼；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及时增减衣服；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积极防治营养不良、佝偻病、贫血等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70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4" dur="20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6553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第三节  急性支气管炎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826560" y="1268280"/>
            <a:ext cx="831708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急性支气管炎（</a:t>
            </a:r>
            <a:r>
              <a:rPr b="1" lang="en-US" sz="2800" spc="-1" strike="noStrike">
                <a:solidFill>
                  <a:srgbClr val="ff0000"/>
                </a:solidFill>
                <a:latin typeface="楷体"/>
                <a:ea typeface="楷体"/>
              </a:rPr>
              <a:t>acute bronchitis</a:t>
            </a: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2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是指由各种病原体引起的支气管黏膜的炎症，由于气管常同时受累，故又称为急性气管支气管炎（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acute tracheo-bronchitis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。常继发于急性上呼吸道感染，或为某些急性传染病临床表现的一部分。婴幼儿多见，且症状较重。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73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感染  主要原因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环境因素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免疫功能低下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特异性因素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5" name="Text Box 5"/>
          <p:cNvSpPr/>
          <p:nvPr/>
        </p:nvSpPr>
        <p:spPr>
          <a:xfrm>
            <a:off x="4427640" y="260280"/>
            <a:ext cx="2449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776" name="Text Box 6"/>
          <p:cNvSpPr/>
          <p:nvPr/>
        </p:nvSpPr>
        <p:spPr>
          <a:xfrm>
            <a:off x="684360" y="189000"/>
            <a:ext cx="31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病因及发病机制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77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/>
          </p:nvPr>
        </p:nvSpPr>
        <p:spPr>
          <a:xfrm>
            <a:off x="826560" y="159984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大多先有上呼吸道感染症状，之后以咳嗽为主要症状，开始为干咳，以后渐有支气管分泌物而为有痰的咳嗽。婴幼儿症状较重，常有发热及呕吐、腹泻、腹痛等消化道症状，不会咳痰，多经咽部咽下。年长儿一般全身症状不明显，发热可有可无，可诉头痛及胸痛。肺部听诊双肺呼吸音粗，可闻及不固定的散在的干湿啰音和大、中水泡音。急性症状一般持续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7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0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天，有时迁延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周，或反复发作。如不经适当治疗可引起肺炎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9" name="Text Box 5"/>
          <p:cNvSpPr/>
          <p:nvPr/>
        </p:nvSpPr>
        <p:spPr>
          <a:xfrm>
            <a:off x="684360" y="189000"/>
            <a:ext cx="1944720" cy="12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临床表现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80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1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/>
          </p:nvPr>
        </p:nvSpPr>
        <p:spPr>
          <a:xfrm>
            <a:off x="826560" y="159984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显示正常或肺纹理增粗，肺门阴影增深。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684360" y="189000"/>
            <a:ext cx="1944720" cy="12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胸部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</a:rPr>
              <a:t>X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线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83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  <p:pic>
        <p:nvPicPr>
          <p:cNvPr id="784" name="Picture 5" descr="t49702.gif (16165 bytes)"/>
          <p:cNvPicPr/>
          <p:nvPr/>
        </p:nvPicPr>
        <p:blipFill>
          <a:blip r:embed="rId2"/>
          <a:stretch/>
        </p:blipFill>
        <p:spPr>
          <a:xfrm>
            <a:off x="5867280" y="3124080"/>
            <a:ext cx="3276720" cy="3733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/>
          </p:nvPr>
        </p:nvSpPr>
        <p:spPr>
          <a:xfrm>
            <a:off x="826560" y="1600200"/>
            <a:ext cx="720108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一般治疗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控制感染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对症治疗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6" name="Text Box 3"/>
          <p:cNvSpPr/>
          <p:nvPr/>
        </p:nvSpPr>
        <p:spPr>
          <a:xfrm>
            <a:off x="684360" y="189000"/>
            <a:ext cx="19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治疗要点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87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3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/>
          </p:nvPr>
        </p:nvSpPr>
        <p:spPr>
          <a:xfrm>
            <a:off x="826560" y="159984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健康史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身体状况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心理、社会状况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9" name="Text Box 3"/>
          <p:cNvSpPr/>
          <p:nvPr/>
        </p:nvSpPr>
        <p:spPr>
          <a:xfrm>
            <a:off x="684360" y="189000"/>
            <a:ext cx="194472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90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4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/>
          </p:nvPr>
        </p:nvSpPr>
        <p:spPr>
          <a:xfrm>
            <a:off x="826560" y="1915920"/>
            <a:ext cx="8077320" cy="49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体温过高  与病毒或细菌感染有关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清理呼吸道无效  与痰液黏稠不易咳出，气道分泌物堆积有关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2" name="Text Box 3"/>
          <p:cNvSpPr/>
          <p:nvPr/>
        </p:nvSpPr>
        <p:spPr>
          <a:xfrm>
            <a:off x="684360" y="189000"/>
            <a:ext cx="194472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护理诊断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93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5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一般护理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休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保证充足的水分及营养供给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保持口腔清洁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保持呼吸道通畅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病情观察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用药护理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健康教育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95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  <p:sp>
        <p:nvSpPr>
          <p:cNvPr id="796" name="Text Box 6"/>
          <p:cNvSpPr/>
          <p:nvPr/>
        </p:nvSpPr>
        <p:spPr>
          <a:xfrm>
            <a:off x="684360" y="189000"/>
            <a:ext cx="23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护理措施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</p:spTree>
  </p:cSld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6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684000" y="0"/>
            <a:ext cx="6048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第四节   肺炎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611280" y="1267920"/>
            <a:ext cx="8076960" cy="47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肺炎（</a:t>
            </a:r>
            <a:r>
              <a:rPr b="0" lang="en-US" sz="2800" spc="-1" strike="noStrike">
                <a:solidFill>
                  <a:srgbClr val="ff0000"/>
                </a:solidFill>
                <a:latin typeface="楷体"/>
                <a:ea typeface="楷体"/>
              </a:rPr>
              <a:t>pneumonia</a:t>
            </a:r>
            <a:r>
              <a:rPr b="0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是由不同病原体或其他因素（吸入羊水、过敏等）所致的肺部炎症，以发热、咳嗽、气促、呼吸困难和肺部固定湿啰音为主要表现。肺炎为儿科常见病，尤其多见于婴幼儿，也是婴儿时期主要死亡原因，严重影响小儿健康，被卫计委列为小儿四病防治之一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99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9" name="Picture 3" descr="HX"/>
          <p:cNvPicPr/>
          <p:nvPr/>
        </p:nvPicPr>
        <p:blipFill>
          <a:blip r:embed="rId1"/>
          <a:stretch/>
        </p:blipFill>
        <p:spPr>
          <a:xfrm>
            <a:off x="3989520" y="907920"/>
            <a:ext cx="5154480" cy="5950080"/>
          </a:xfrm>
          <a:prstGeom prst="rect">
            <a:avLst/>
          </a:prstGeom>
          <a:ln w="0">
            <a:noFill/>
          </a:ln>
        </p:spPr>
      </p:pic>
      <p:pic>
        <p:nvPicPr>
          <p:cNvPr id="680" name="Picture 4" descr="肺部解剖2"/>
          <p:cNvPicPr/>
          <p:nvPr/>
        </p:nvPicPr>
        <p:blipFill>
          <a:blip r:embed="rId2"/>
          <a:stretch/>
        </p:blipFill>
        <p:spPr>
          <a:xfrm>
            <a:off x="900000" y="2781360"/>
            <a:ext cx="3124440" cy="2811240"/>
          </a:xfrm>
          <a:prstGeom prst="rect">
            <a:avLst/>
          </a:prstGeom>
          <a:ln w="0">
            <a:noFill/>
          </a:ln>
        </p:spPr>
      </p:pic>
      <p:sp>
        <p:nvSpPr>
          <p:cNvPr id="681" name="Line 5"/>
          <p:cNvSpPr/>
          <p:nvPr/>
        </p:nvSpPr>
        <p:spPr>
          <a:xfrm>
            <a:off x="4495680" y="2286000"/>
            <a:ext cx="76212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82" name="Text Box 8"/>
          <p:cNvSpPr/>
          <p:nvPr/>
        </p:nvSpPr>
        <p:spPr>
          <a:xfrm>
            <a:off x="395280" y="18900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62699"/>
                </a:solidFill>
                <a:latin typeface="楷体"/>
              </a:rPr>
              <a:t>解剖特点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683" name="图片 1" descr=""/>
          <p:cNvPicPr/>
          <p:nvPr/>
        </p:nvPicPr>
        <p:blipFill>
          <a:blip r:embed="rId3"/>
          <a:stretch/>
        </p:blipFill>
        <p:spPr>
          <a:xfrm>
            <a:off x="6537240" y="0"/>
            <a:ext cx="2606760" cy="90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4"/>
          <p:cNvSpPr/>
          <p:nvPr/>
        </p:nvSpPr>
        <p:spPr>
          <a:xfrm>
            <a:off x="1116000" y="371628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病因</a:t>
            </a:r>
            <a:endParaRPr b="0" lang="en-US" sz="2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01" name="AutoShape 6"/>
          <p:cNvSpPr/>
          <p:nvPr/>
        </p:nvSpPr>
        <p:spPr>
          <a:xfrm>
            <a:off x="2268360" y="2349360"/>
            <a:ext cx="425520" cy="3168720"/>
          </a:xfrm>
          <a:custGeom>
            <a:avLst/>
            <a:gdLst>
              <a:gd name="textAreaLeft" fmla="*/ 271800 w 425520"/>
              <a:gd name="textAreaRight" fmla="*/ 425880 w 425520"/>
              <a:gd name="textAreaTop" fmla="*/ 82440 h 3168720"/>
              <a:gd name="textAreaBottom" fmla="*/ 3086280 h 3168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460"/>
                </a:lnTo>
                <a:cubicBezTo>
                  <a:pt x="10800" y="10360"/>
                  <a:pt x="5400" y="11260"/>
                  <a:pt x="0" y="11260"/>
                </a:cubicBezTo>
                <a:cubicBezTo>
                  <a:pt x="5400" y="11260"/>
                  <a:pt x="10800" y="12160"/>
                  <a:pt x="10800" y="1306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02" name="Text Box 8"/>
          <p:cNvSpPr/>
          <p:nvPr/>
        </p:nvSpPr>
        <p:spPr>
          <a:xfrm>
            <a:off x="2771640" y="2133720"/>
            <a:ext cx="461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病毒性肺炎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03" name="Text Box 9"/>
          <p:cNvSpPr/>
          <p:nvPr/>
        </p:nvSpPr>
        <p:spPr>
          <a:xfrm>
            <a:off x="2771640" y="2781360"/>
            <a:ext cx="461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细菌性肺炎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04" name="Text Box 10"/>
          <p:cNvSpPr/>
          <p:nvPr/>
        </p:nvSpPr>
        <p:spPr>
          <a:xfrm>
            <a:off x="2771640" y="3357720"/>
            <a:ext cx="561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支原体、衣原体性肺炎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05" name="Text Box 11"/>
          <p:cNvSpPr/>
          <p:nvPr/>
        </p:nvSpPr>
        <p:spPr>
          <a:xfrm>
            <a:off x="2700360" y="3933720"/>
            <a:ext cx="583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真菌性肺炎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06" name="Text Box 12"/>
          <p:cNvSpPr/>
          <p:nvPr/>
        </p:nvSpPr>
        <p:spPr>
          <a:xfrm>
            <a:off x="2700360" y="4581360"/>
            <a:ext cx="5835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吸入性肺炎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过敏性肺炎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07" name="Text Box 35"/>
          <p:cNvSpPr/>
          <p:nvPr/>
        </p:nvSpPr>
        <p:spPr>
          <a:xfrm>
            <a:off x="755640" y="189000"/>
            <a:ext cx="207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分类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808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7" dur="10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2" dur="10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7" dur="10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2" dur="10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7" dur="10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2" dur="10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7" dur="10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1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Text Box 16"/>
          <p:cNvSpPr/>
          <p:nvPr/>
        </p:nvSpPr>
        <p:spPr>
          <a:xfrm>
            <a:off x="1547640" y="3357720"/>
            <a:ext cx="1067040" cy="520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病程</a:t>
            </a:r>
            <a:endParaRPr b="0" lang="en-US" sz="2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10" name="AutoShape 17"/>
          <p:cNvSpPr/>
          <p:nvPr/>
        </p:nvSpPr>
        <p:spPr>
          <a:xfrm>
            <a:off x="2556000" y="2708280"/>
            <a:ext cx="287280" cy="1800360"/>
          </a:xfrm>
          <a:custGeom>
            <a:avLst/>
            <a:gdLst>
              <a:gd name="textAreaLeft" fmla="*/ 183600 w 287280"/>
              <a:gd name="textAreaRight" fmla="*/ 287640 w 287280"/>
              <a:gd name="textAreaTop" fmla="*/ 46800 h 1800360"/>
              <a:gd name="textAreaBottom" fmla="*/ 1753560 h 180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11" name="Text Box 18"/>
          <p:cNvSpPr/>
          <p:nvPr/>
        </p:nvSpPr>
        <p:spPr>
          <a:xfrm>
            <a:off x="2843280" y="2492280"/>
            <a:ext cx="36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Arial"/>
              </a:rPr>
              <a:t>急性肺炎：病程＜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Arial"/>
              </a:rPr>
              <a:t>个月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12" name="Text Box 19"/>
          <p:cNvSpPr/>
          <p:nvPr/>
        </p:nvSpPr>
        <p:spPr>
          <a:xfrm>
            <a:off x="2916360" y="3357720"/>
            <a:ext cx="48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Arial"/>
              </a:rPr>
              <a:t>迁延性肺炎：病程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Arial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Arial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Arial"/>
              </a:rPr>
              <a:t>个月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13" name="Text Box 20"/>
          <p:cNvSpPr/>
          <p:nvPr/>
        </p:nvSpPr>
        <p:spPr>
          <a:xfrm>
            <a:off x="2987640" y="4149720"/>
            <a:ext cx="32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Arial"/>
              </a:rPr>
              <a:t>慢性肺炎：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Arial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Arial"/>
              </a:rPr>
              <a:t>个月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14" name="Text Box 32"/>
          <p:cNvSpPr/>
          <p:nvPr/>
        </p:nvSpPr>
        <p:spPr>
          <a:xfrm>
            <a:off x="684360" y="189000"/>
            <a:ext cx="150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分类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815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4" dur="10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9" dur="10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4" dur="10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9" dur="10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4" dur="10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4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Text Box 5"/>
          <p:cNvSpPr/>
          <p:nvPr/>
        </p:nvSpPr>
        <p:spPr>
          <a:xfrm>
            <a:off x="755640" y="3933720"/>
            <a:ext cx="127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病理</a:t>
            </a:r>
            <a:endParaRPr b="0" lang="en-US" sz="2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17" name="AutoShape 7"/>
          <p:cNvSpPr/>
          <p:nvPr/>
        </p:nvSpPr>
        <p:spPr>
          <a:xfrm>
            <a:off x="1979640" y="2997360"/>
            <a:ext cx="431640" cy="2376360"/>
          </a:xfrm>
          <a:custGeom>
            <a:avLst/>
            <a:gdLst>
              <a:gd name="textAreaLeft" fmla="*/ 275760 w 431640"/>
              <a:gd name="textAreaRight" fmla="*/ 432000 w 431640"/>
              <a:gd name="textAreaTop" fmla="*/ 61920 h 2376360"/>
              <a:gd name="textAreaBottom" fmla="*/ 2314440 h 23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18" name="Text Box 13"/>
          <p:cNvSpPr/>
          <p:nvPr/>
        </p:nvSpPr>
        <p:spPr>
          <a:xfrm>
            <a:off x="2411280" y="2708280"/>
            <a:ext cx="25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支气管肺炎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19" name="Text Box 14"/>
          <p:cNvSpPr/>
          <p:nvPr/>
        </p:nvSpPr>
        <p:spPr>
          <a:xfrm>
            <a:off x="2340000" y="3860640"/>
            <a:ext cx="23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大叶性肺炎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20" name="Text Box 15"/>
          <p:cNvSpPr/>
          <p:nvPr/>
        </p:nvSpPr>
        <p:spPr>
          <a:xfrm>
            <a:off x="2411280" y="508464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间质性肺炎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21" name="Text Box 30"/>
          <p:cNvSpPr/>
          <p:nvPr/>
        </p:nvSpPr>
        <p:spPr>
          <a:xfrm>
            <a:off x="684360" y="189000"/>
            <a:ext cx="152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分类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822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1" dur="10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6" dur="10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1" dur="10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6" dur="10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1" dur="10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nodeType="clickEffect" fill="hold">
                      <p:stCondLst>
                        <p:cond delay="indefinite"/>
                      </p:stCondLst>
                      <p:childTnLst>
                        <p:par>
                          <p:cTn id="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8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21"/>
          <p:cNvSpPr/>
          <p:nvPr/>
        </p:nvSpPr>
        <p:spPr>
          <a:xfrm flipH="1">
            <a:off x="1259640" y="256536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病 情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24" name="AutoShape 22"/>
          <p:cNvSpPr/>
          <p:nvPr/>
        </p:nvSpPr>
        <p:spPr>
          <a:xfrm>
            <a:off x="2268360" y="2276640"/>
            <a:ext cx="503280" cy="1081080"/>
          </a:xfrm>
          <a:custGeom>
            <a:avLst/>
            <a:gdLst>
              <a:gd name="textAreaLeft" fmla="*/ 321480 w 503280"/>
              <a:gd name="textAreaRight" fmla="*/ 503640 w 503280"/>
              <a:gd name="textAreaTop" fmla="*/ 28080 h 1081080"/>
              <a:gd name="textAreaBottom" fmla="*/ 1053000 h 10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25" name="Text Box 23"/>
          <p:cNvSpPr/>
          <p:nvPr/>
        </p:nvSpPr>
        <p:spPr>
          <a:xfrm>
            <a:off x="2700360" y="2133720"/>
            <a:ext cx="38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轻症肺炎：主要为呼吸系统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26" name="Text Box 24"/>
          <p:cNvSpPr/>
          <p:nvPr/>
        </p:nvSpPr>
        <p:spPr>
          <a:xfrm>
            <a:off x="2771640" y="3068640"/>
            <a:ext cx="324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重症肺炎：全身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27" name="Rectangle 25"/>
          <p:cNvSpPr/>
          <p:nvPr/>
        </p:nvSpPr>
        <p:spPr>
          <a:xfrm>
            <a:off x="900000" y="4797360"/>
            <a:ext cx="28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临床表现是否典型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28" name="Rectangle 26"/>
          <p:cNvSpPr/>
          <p:nvPr/>
        </p:nvSpPr>
        <p:spPr>
          <a:xfrm>
            <a:off x="4356000" y="413712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典型性肺炎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29" name="Rectangle 27"/>
          <p:cNvSpPr/>
          <p:nvPr/>
        </p:nvSpPr>
        <p:spPr>
          <a:xfrm>
            <a:off x="4356000" y="551664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非典型肺炎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30" name="AutoShape 28"/>
          <p:cNvSpPr/>
          <p:nvPr/>
        </p:nvSpPr>
        <p:spPr>
          <a:xfrm>
            <a:off x="3708360" y="4365720"/>
            <a:ext cx="503280" cy="1439640"/>
          </a:xfrm>
          <a:custGeom>
            <a:avLst/>
            <a:gdLst>
              <a:gd name="textAreaLeft" fmla="*/ 321480 w 503280"/>
              <a:gd name="textAreaRight" fmla="*/ 503640 w 503280"/>
              <a:gd name="textAreaTop" fmla="*/ 37440 h 1439640"/>
              <a:gd name="textAreaBottom" fmla="*/ 1402200 h 143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31" name="Text Box 30"/>
          <p:cNvSpPr/>
          <p:nvPr/>
        </p:nvSpPr>
        <p:spPr>
          <a:xfrm>
            <a:off x="755640" y="189000"/>
            <a:ext cx="152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分类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832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0" dur="indefinite" restart="never" nodeType="tmRoot">
          <p:childTnLst>
            <p:seq>
              <p:cTn id="591" dur="indefinite" nodeType="mainSeq">
                <p:childTnLst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8" dur="10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3" dur="10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8" dur="10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3" dur="10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8" dur="1000"/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4" name="AutoShape 4"/>
          <p:cNvSpPr/>
          <p:nvPr/>
        </p:nvSpPr>
        <p:spPr>
          <a:xfrm>
            <a:off x="3276720" y="2708280"/>
            <a:ext cx="431640" cy="2521080"/>
          </a:xfrm>
          <a:custGeom>
            <a:avLst/>
            <a:gdLst>
              <a:gd name="textAreaLeft" fmla="*/ 275760 w 431640"/>
              <a:gd name="textAreaRight" fmla="*/ 432000 w 431640"/>
              <a:gd name="textAreaTop" fmla="*/ 65520 h 2521080"/>
              <a:gd name="textAreaBottom" fmla="*/ 2455560 h 252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ffffff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35" name="Rectangle 5"/>
          <p:cNvSpPr/>
          <p:nvPr/>
        </p:nvSpPr>
        <p:spPr>
          <a:xfrm>
            <a:off x="1042920" y="3669480"/>
            <a:ext cx="23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</a:rPr>
              <a:t>按发生地</a:t>
            </a:r>
            <a:endParaRPr b="0" lang="en-US" sz="2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36" name="Text Box 7"/>
          <p:cNvSpPr/>
          <p:nvPr/>
        </p:nvSpPr>
        <p:spPr>
          <a:xfrm>
            <a:off x="3780000" y="2492280"/>
            <a:ext cx="224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社区获得性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37" name="Rectangle 8"/>
          <p:cNvSpPr/>
          <p:nvPr/>
        </p:nvSpPr>
        <p:spPr>
          <a:xfrm>
            <a:off x="4044960" y="498528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院内获得性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838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3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支气管肺炎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黑体"/>
              </a:rPr>
              <a:t>bronchopneumonia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）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856944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是小儿时期最常见的肺炎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多见于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岁以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一年四季均可发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低出生体重、营养不良、维生素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D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缺乏、先天性心脏病易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41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-324000" y="1371600"/>
            <a:ext cx="9468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   </a:t>
            </a:r>
            <a:r>
              <a:rPr b="0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病原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主要为病毒和细菌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病毒（发达国家）：呼吸道合胞病毒、腺病毒、流感病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细菌（发展中国家）：肺炎链球菌、葡萄球菌、链球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支原体、衣原体等引起的肺炎呈上升趋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真菌及卡氏肺孢子虫易感染早产儿、艾滋病等患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4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37" dur="indefinite" restart="never" nodeType="tmRoot">
          <p:childTnLst>
            <p:seq>
              <p:cTn id="638" dur="indefinite" nodeType="mainSeq">
                <p:childTnLst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4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/>
          </p:nvPr>
        </p:nvSpPr>
        <p:spPr>
          <a:xfrm>
            <a:off x="179280" y="1483920"/>
            <a:ext cx="8126640" cy="302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  <a:ea typeface="楷体"/>
              </a:rPr>
              <a:t>机体因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601"/>
              </a:spcBef>
              <a:buClr>
                <a:srgbClr val="d1b6d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呼吸系统解剖、生理、免疫特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601"/>
              </a:spcBef>
              <a:buClr>
                <a:srgbClr val="d1b6d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年龄及营养状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847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7" dur="indefinite" restart="never" nodeType="tmRoot">
          <p:childTnLst>
            <p:seq>
              <p:cTn id="648" dur="indefinite" nodeType="mainSeq">
                <p:childTnLst>
                  <p:par>
                    <p:cTn id="649" nodeType="clickEffect" fill="hold">
                      <p:stCondLst>
                        <p:cond delay="indefinite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5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5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5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914400" y="2602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250560" y="1483920"/>
            <a:ext cx="8281800" cy="505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  <a:ea typeface="楷体"/>
              </a:rPr>
              <a:t>疾病影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4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重度佝偻病、接受化疗、放疗、免疫抑制治疗的小儿或原发性免疫缺陷小儿易患肺炎，易致重型肺炎。</a:t>
            </a: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4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  <a:ea typeface="楷体"/>
              </a:rPr>
              <a:t>环境因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0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57" dur="indefinite" restart="never" nodeType="tmRoot">
          <p:childTnLst>
            <p:seq>
              <p:cTn id="658" dur="indefinite" nodeType="mainSeq">
                <p:childTnLst>
                  <p:par>
                    <p:cTn id="659" nodeType="clickEffect" fill="hold">
                      <p:stCondLst>
                        <p:cond delay="indefinite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6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病理生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2" name="Text Box 4"/>
          <p:cNvSpPr/>
          <p:nvPr/>
        </p:nvSpPr>
        <p:spPr>
          <a:xfrm>
            <a:off x="3240" y="3141720"/>
            <a:ext cx="546120" cy="14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病原菌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53" name="Line 5"/>
          <p:cNvSpPr/>
          <p:nvPr/>
        </p:nvSpPr>
        <p:spPr>
          <a:xfrm>
            <a:off x="685800" y="3701880"/>
            <a:ext cx="762120" cy="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54" name="Text Box 6"/>
          <p:cNvSpPr/>
          <p:nvPr/>
        </p:nvSpPr>
        <p:spPr>
          <a:xfrm>
            <a:off x="324000" y="3284640"/>
            <a:ext cx="121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呼吸道大多</a:t>
            </a:r>
            <a:endParaRPr b="0" lang="en-US" sz="16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55" name="Text Box 7"/>
          <p:cNvSpPr/>
          <p:nvPr/>
        </p:nvSpPr>
        <p:spPr>
          <a:xfrm>
            <a:off x="395280" y="378936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少数血行</a:t>
            </a:r>
            <a:endParaRPr b="0" lang="en-US" sz="16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56" name="Text Box 8"/>
          <p:cNvSpPr/>
          <p:nvPr/>
        </p:nvSpPr>
        <p:spPr>
          <a:xfrm>
            <a:off x="1371600" y="34732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肺</a:t>
            </a:r>
            <a:endParaRPr b="0" lang="en-US" sz="20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57" name="Line 9"/>
          <p:cNvSpPr/>
          <p:nvPr/>
        </p:nvSpPr>
        <p:spPr>
          <a:xfrm flipV="1">
            <a:off x="1676520" y="3244320"/>
            <a:ext cx="380880" cy="38124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58" name="Line 10"/>
          <p:cNvSpPr/>
          <p:nvPr/>
        </p:nvSpPr>
        <p:spPr>
          <a:xfrm>
            <a:off x="1676520" y="3701880"/>
            <a:ext cx="380880" cy="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59" name="Line 11"/>
          <p:cNvSpPr/>
          <p:nvPr/>
        </p:nvSpPr>
        <p:spPr>
          <a:xfrm>
            <a:off x="1676520" y="3778200"/>
            <a:ext cx="380880" cy="38088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60" name="Text Box 12"/>
          <p:cNvSpPr/>
          <p:nvPr/>
        </p:nvSpPr>
        <p:spPr>
          <a:xfrm>
            <a:off x="1905120" y="29718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小支气管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61" name="Text Box 13"/>
          <p:cNvSpPr/>
          <p:nvPr/>
        </p:nvSpPr>
        <p:spPr>
          <a:xfrm>
            <a:off x="1981080" y="34732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肺泡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62" name="Text Box 14"/>
          <p:cNvSpPr/>
          <p:nvPr/>
        </p:nvSpPr>
        <p:spPr>
          <a:xfrm>
            <a:off x="1981080" y="393048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肺间质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63" name="Line 15"/>
          <p:cNvSpPr/>
          <p:nvPr/>
        </p:nvSpPr>
        <p:spPr>
          <a:xfrm>
            <a:off x="2971800" y="3244680"/>
            <a:ext cx="228600" cy="22860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64" name="Line 16"/>
          <p:cNvSpPr/>
          <p:nvPr/>
        </p:nvSpPr>
        <p:spPr>
          <a:xfrm flipV="1">
            <a:off x="2819520" y="4006440"/>
            <a:ext cx="380880" cy="15228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65" name="Line 17"/>
          <p:cNvSpPr/>
          <p:nvPr/>
        </p:nvSpPr>
        <p:spPr>
          <a:xfrm>
            <a:off x="2627280" y="3716280"/>
            <a:ext cx="576360" cy="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66" name="Text Box 18"/>
          <p:cNvSpPr/>
          <p:nvPr/>
        </p:nvSpPr>
        <p:spPr>
          <a:xfrm>
            <a:off x="3124080" y="32590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通气障碍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67" name="Text Box 19"/>
          <p:cNvSpPr/>
          <p:nvPr/>
        </p:nvSpPr>
        <p:spPr>
          <a:xfrm>
            <a:off x="3132000" y="3716280"/>
            <a:ext cx="11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换气障碍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68" name="Line 20"/>
          <p:cNvSpPr/>
          <p:nvPr/>
        </p:nvSpPr>
        <p:spPr>
          <a:xfrm>
            <a:off x="4114800" y="3473280"/>
            <a:ext cx="304920" cy="22860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69" name="Line 21"/>
          <p:cNvSpPr/>
          <p:nvPr/>
        </p:nvSpPr>
        <p:spPr>
          <a:xfrm flipV="1">
            <a:off x="4114800" y="3701520"/>
            <a:ext cx="304920" cy="22860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70" name="Text Box 22"/>
          <p:cNvSpPr/>
          <p:nvPr/>
        </p:nvSpPr>
        <p:spPr>
          <a:xfrm>
            <a:off x="4219920" y="2852640"/>
            <a:ext cx="73476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缺氧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、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  <a:p>
            <a:pPr algn="ctr"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二氧化碳潴留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71" name="Line 23"/>
          <p:cNvSpPr/>
          <p:nvPr/>
        </p:nvSpPr>
        <p:spPr>
          <a:xfrm flipV="1">
            <a:off x="4952880" y="2939760"/>
            <a:ext cx="304920" cy="60948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72" name="Line 24"/>
          <p:cNvSpPr/>
          <p:nvPr/>
        </p:nvSpPr>
        <p:spPr>
          <a:xfrm flipV="1">
            <a:off x="5029200" y="3473280"/>
            <a:ext cx="304920" cy="15264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73" name="Line 25"/>
          <p:cNvSpPr/>
          <p:nvPr/>
        </p:nvSpPr>
        <p:spPr>
          <a:xfrm>
            <a:off x="5029200" y="3778200"/>
            <a:ext cx="304920" cy="15228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74" name="Line 26"/>
          <p:cNvSpPr/>
          <p:nvPr/>
        </p:nvSpPr>
        <p:spPr>
          <a:xfrm>
            <a:off x="4952880" y="3930480"/>
            <a:ext cx="381240" cy="53352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75" name="Text Box 27"/>
          <p:cNvSpPr/>
          <p:nvPr/>
        </p:nvSpPr>
        <p:spPr>
          <a:xfrm>
            <a:off x="5364000" y="266688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循环系统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76" name="Text Box 28"/>
          <p:cNvSpPr/>
          <p:nvPr/>
        </p:nvSpPr>
        <p:spPr>
          <a:xfrm>
            <a:off x="5257800" y="32446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中枢神经系统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77" name="Text Box 29"/>
          <p:cNvSpPr/>
          <p:nvPr/>
        </p:nvSpPr>
        <p:spPr>
          <a:xfrm>
            <a:off x="5257800" y="377820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消化系统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78" name="Text Box 30"/>
          <p:cNvSpPr/>
          <p:nvPr/>
        </p:nvSpPr>
        <p:spPr>
          <a:xfrm>
            <a:off x="5257800" y="431172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水、电解质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79" name="AutoShape 31"/>
          <p:cNvSpPr/>
          <p:nvPr/>
        </p:nvSpPr>
        <p:spPr>
          <a:xfrm>
            <a:off x="6659640" y="2492280"/>
            <a:ext cx="75960" cy="609840"/>
          </a:xfrm>
          <a:custGeom>
            <a:avLst/>
            <a:gdLst>
              <a:gd name="textAreaLeft" fmla="*/ 48600 w 75960"/>
              <a:gd name="textAreaRight" fmla="*/ 76320 w 7596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80" name="Text Box 32"/>
          <p:cNvSpPr/>
          <p:nvPr/>
        </p:nvSpPr>
        <p:spPr>
          <a:xfrm>
            <a:off x="6877080" y="2276640"/>
            <a:ext cx="165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肺动脉高压</a:t>
            </a:r>
            <a:endParaRPr b="0" lang="en-US" sz="16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81" name="Text Box 33"/>
          <p:cNvSpPr/>
          <p:nvPr/>
        </p:nvSpPr>
        <p:spPr>
          <a:xfrm>
            <a:off x="6877080" y="263700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中毒性心肌炎</a:t>
            </a:r>
            <a:endParaRPr b="0" lang="en-US" sz="16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82" name="Text Box 34"/>
          <p:cNvSpPr/>
          <p:nvPr/>
        </p:nvSpPr>
        <p:spPr>
          <a:xfrm>
            <a:off x="6948360" y="2924280"/>
            <a:ext cx="122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心力衰竭</a:t>
            </a:r>
            <a:endParaRPr b="0" lang="en-US" sz="16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83" name="Line 35"/>
          <p:cNvSpPr/>
          <p:nvPr/>
        </p:nvSpPr>
        <p:spPr>
          <a:xfrm>
            <a:off x="6781680" y="3473280"/>
            <a:ext cx="533520" cy="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84" name="Text Box 36"/>
          <p:cNvSpPr/>
          <p:nvPr/>
        </p:nvSpPr>
        <p:spPr>
          <a:xfrm>
            <a:off x="7308720" y="3357720"/>
            <a:ext cx="1371600" cy="5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脑水肿</a:t>
            </a:r>
            <a:endParaRPr b="0" lang="en-US" sz="1600" spc="-1" strike="noStrike">
              <a:solidFill>
                <a:srgbClr val="000000"/>
              </a:solidFill>
              <a:latin typeface="楷体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中毒性脑病</a:t>
            </a:r>
            <a:endParaRPr b="0" lang="en-US" sz="16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85" name="Line 37"/>
          <p:cNvSpPr/>
          <p:nvPr/>
        </p:nvSpPr>
        <p:spPr>
          <a:xfrm>
            <a:off x="6248520" y="4006800"/>
            <a:ext cx="304560" cy="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86" name="Text Box 38"/>
          <p:cNvSpPr/>
          <p:nvPr/>
        </p:nvSpPr>
        <p:spPr>
          <a:xfrm>
            <a:off x="6477120" y="3822840"/>
            <a:ext cx="259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功能紊乱、麻痹、出血</a:t>
            </a:r>
            <a:endParaRPr b="0" lang="en-US" sz="16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87" name="Line 39"/>
          <p:cNvSpPr/>
          <p:nvPr/>
        </p:nvSpPr>
        <p:spPr>
          <a:xfrm>
            <a:off x="6477120" y="4495680"/>
            <a:ext cx="380880" cy="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88" name="Text Box 40"/>
          <p:cNvSpPr/>
          <p:nvPr/>
        </p:nvSpPr>
        <p:spPr>
          <a:xfrm>
            <a:off x="6877080" y="42926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酸中毒、低钾性碱中毒</a:t>
            </a:r>
            <a:endParaRPr b="0" lang="en-US" sz="16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89" name="Text Box 41"/>
          <p:cNvSpPr/>
          <p:nvPr/>
        </p:nvSpPr>
        <p:spPr>
          <a:xfrm>
            <a:off x="2746800" y="4800600"/>
            <a:ext cx="1095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呼吸增快心率增快</a:t>
            </a:r>
            <a:endParaRPr b="0" lang="en-US" sz="20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90" name="Line 42"/>
          <p:cNvSpPr/>
          <p:nvPr/>
        </p:nvSpPr>
        <p:spPr>
          <a:xfrm flipH="1">
            <a:off x="3809880" y="4343400"/>
            <a:ext cx="457200" cy="45720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891" name="Picture 43" descr="肺部解剖2"/>
          <p:cNvPicPr/>
          <p:nvPr/>
        </p:nvPicPr>
        <p:blipFill>
          <a:blip r:embed="rId1"/>
          <a:stretch/>
        </p:blipFill>
        <p:spPr>
          <a:xfrm>
            <a:off x="7894800" y="5734080"/>
            <a:ext cx="1249200" cy="1123920"/>
          </a:xfrm>
          <a:prstGeom prst="rect">
            <a:avLst/>
          </a:prstGeom>
          <a:ln w="0">
            <a:noFill/>
          </a:ln>
        </p:spPr>
      </p:pic>
      <p:sp>
        <p:nvSpPr>
          <p:cNvPr id="892" name="Text Box 44"/>
          <p:cNvSpPr/>
          <p:nvPr/>
        </p:nvSpPr>
        <p:spPr>
          <a:xfrm>
            <a:off x="4645080" y="5181480"/>
            <a:ext cx="1863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鼻翼扇动三凹征</a:t>
            </a:r>
            <a:endParaRPr b="0" lang="en-US" sz="2000" spc="-1" strike="noStrike">
              <a:solidFill>
                <a:srgbClr val="000000"/>
              </a:solidFill>
              <a:latin typeface="楷体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呼吸衰竭</a:t>
            </a:r>
            <a:endParaRPr b="0" lang="en-US" sz="20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93" name="Text Box 45"/>
          <p:cNvSpPr/>
          <p:nvPr/>
        </p:nvSpPr>
        <p:spPr>
          <a:xfrm>
            <a:off x="4038480" y="48006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呼吸系统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94" name="Line 46"/>
          <p:cNvSpPr/>
          <p:nvPr/>
        </p:nvSpPr>
        <p:spPr>
          <a:xfrm>
            <a:off x="4572000" y="4495680"/>
            <a:ext cx="0" cy="30492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95" name="Line 47"/>
          <p:cNvSpPr/>
          <p:nvPr/>
        </p:nvSpPr>
        <p:spPr>
          <a:xfrm>
            <a:off x="4648320" y="5181480"/>
            <a:ext cx="609480" cy="30492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896" name="图片 1" descr=""/>
          <p:cNvPicPr/>
          <p:nvPr/>
        </p:nvPicPr>
        <p:blipFill>
          <a:blip r:embed="rId2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67" dur="indefinite" restart="never" nodeType="tmRoot">
          <p:childTnLst>
            <p:seq>
              <p:cTn id="668" dur="indefinite" nodeType="mainSeq">
                <p:childTnLst>
                  <p:par>
                    <p:cTn id="669" nodeType="clickEffect" fill="hold">
                      <p:stCondLst>
                        <p:cond delay="indefinite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7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7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nodeType="clickEffect" fill="hold">
                      <p:stCondLst>
                        <p:cond delay="indefinite"/>
                      </p:stCondLst>
                      <p:childTnLst>
                        <p:par>
                          <p:cTn id="6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1" dur="1000" fill="hold"/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1000" fill="hold"/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83" dur="10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6" dur="10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10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88" dur="10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1" dur="10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10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3" dur="10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6" dur="1000" fill="hold"/>
                                        <p:tgtEl>
                                          <p:spTgt spid="8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1000" fill="hold"/>
                                        <p:tgtEl>
                                          <p:spTgt spid="8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8" dur="10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1" dur="1000" fill="hold"/>
                                        <p:tgtEl>
                                          <p:spTgt spid="8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1000" fill="hold"/>
                                        <p:tgtEl>
                                          <p:spTgt spid="8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3" dur="10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nodeType="clickEffect" fill="hold">
                      <p:stCondLst>
                        <p:cond delay="indefinite"/>
                      </p:stCondLst>
                      <p:childTnLst>
                        <p:par>
                          <p:cTn id="7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8" dur="1000" fill="hold"/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1000" fill="hold"/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10" dur="1000"/>
                                        <p:tgtEl>
                                          <p:spTgt spid="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3" dur="100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100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15" dur="10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8" dur="10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10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20" dur="10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3" dur="1000" fill="hold"/>
                                        <p:tgtEl>
                                          <p:spTgt spid="8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1000" fill="hold"/>
                                        <p:tgtEl>
                                          <p:spTgt spid="8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25" dur="10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8" dur="1000" fill="hold"/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1000" fill="hold"/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30" dur="10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3" dur="10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10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35" dur="100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nodeType="clickEffect" fill="hold">
                      <p:stCondLst>
                        <p:cond delay="indefinite"/>
                      </p:stCondLst>
                      <p:childTnLst>
                        <p:par>
                          <p:cTn id="7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0" dur="10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1" dur="1000" fill="hold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1000" fill="hold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5" dur="10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6" dur="100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100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nodeType="clickEffect" fill="hold">
                      <p:stCondLst>
                        <p:cond delay="indefinite"/>
                      </p:stCondLst>
                      <p:childTnLst>
                        <p:par>
                          <p:cTn id="7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2" dur="10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10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54" dur="10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7" dur="10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10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59" dur="10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2" dur="10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10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64" dur="10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nodeType="clickEffect" fill="hold">
                      <p:stCondLst>
                        <p:cond delay="indefinite"/>
                      </p:stCondLst>
                      <p:childTnLst>
                        <p:par>
                          <p:cTn id="7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9" dur="10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10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71" dur="10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76" dur="1000"/>
                                        <p:tgtEl>
                                          <p:spTgt spid="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nodeType="clickEffect" fill="hold">
                      <p:stCondLst>
                        <p:cond delay="indefinite"/>
                      </p:stCondLst>
                      <p:childTnLst>
                        <p:par>
                          <p:cTn id="7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1" dur="77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82" dur="770" fill="hold"/>
                                        <p:tgtEl>
                                          <p:spTgt spid="87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8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84" dur="77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8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86" dur="77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nodeType="clickEffect" fill="hold">
                      <p:stCondLst>
                        <p:cond delay="indefinite"/>
                      </p:stCondLst>
                      <p:childTnLst>
                        <p:par>
                          <p:cTn id="7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2" dur="1000"/>
                                        <p:tgtEl>
                                          <p:spTgt spid="8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3" dur="10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10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7" dur="1000"/>
                                        <p:tgtEl>
                                          <p:spTgt spid="8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8" dur="1000" fill="hold"/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1000" fill="hold"/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nodeType="clickEffect" fill="hold">
                      <p:stCondLst>
                        <p:cond delay="indefinite"/>
                      </p:stCondLst>
                      <p:childTnLst>
                        <p:par>
                          <p:cTn id="8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4" dur="1000"/>
                                        <p:tgtEl>
                                          <p:spTgt spid="8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5" dur="1000" fill="hold"/>
                                        <p:tgtEl>
                                          <p:spTgt spid="8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1000" fill="hold"/>
                                        <p:tgtEl>
                                          <p:spTgt spid="8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9" dur="1000"/>
                                        <p:tgtEl>
                                          <p:spTgt spid="8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0" dur="1000" fill="hold"/>
                                        <p:tgtEl>
                                          <p:spTgt spid="8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1000" fill="hold"/>
                                        <p:tgtEl>
                                          <p:spTgt spid="8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4" dur="10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5" dur="1000" fill="hold"/>
                                        <p:tgtEl>
                                          <p:spTgt spid="8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1000" fill="hold"/>
                                        <p:tgtEl>
                                          <p:spTgt spid="8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9" dur="10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0" dur="1000" fill="hold"/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1000" fill="hold"/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8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8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8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24" nodeType="clickEffect" fill="hold">
                      <p:stCondLst>
                        <p:cond delay="indefinite"/>
                      </p:stCondLst>
                      <p:childTnLst>
                        <p:par>
                          <p:cTn id="8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8" dur="1000"/>
                                        <p:tgtEl>
                                          <p:spTgt spid="8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9" dur="10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10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3" dur="10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4" dur="10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10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8" dur="1000"/>
                                        <p:tgtEl>
                                          <p:spTgt spid="8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9" dur="1000" fill="hold"/>
                                        <p:tgtEl>
                                          <p:spTgt spid="8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1000" fill="hold"/>
                                        <p:tgtEl>
                                          <p:spTgt spid="8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3" dur="1000"/>
                                        <p:tgtEl>
                                          <p:spTgt spid="8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4" dur="10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10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8" dur="10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9" dur="10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10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3" dur="10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4" dur="1000" fill="hold"/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1000" fill="hold"/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nodeType="clickEffect" fill="hold">
                      <p:stCondLst>
                        <p:cond delay="indefinite"/>
                      </p:stCondLst>
                      <p:childTnLst>
                        <p:par>
                          <p:cTn id="8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0" dur="10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10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62" dur="10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5" dur="10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10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67" dur="10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0" dur="1000" fill="hold"/>
                                        <p:tgtEl>
                                          <p:spTgt spid="8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1000" fill="hold"/>
                                        <p:tgtEl>
                                          <p:spTgt spid="8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72" dur="1000"/>
                                        <p:tgtEl>
                                          <p:spTgt spid="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5" dur="1000" fill="hold"/>
                                        <p:tgtEl>
                                          <p:spTgt spid="8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1000" fill="hold"/>
                                        <p:tgtEl>
                                          <p:spTgt spid="8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77" dur="10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nodeType="clickEffect" fill="hold">
                      <p:stCondLst>
                        <p:cond delay="indefinite"/>
                      </p:stCondLst>
                      <p:childTnLst>
                        <p:par>
                          <p:cTn id="8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2" dur="10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10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84" dur="1000"/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7" dur="10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10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89" dur="10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2" dur="10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10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94" dur="1000"/>
                                        <p:tgtEl>
                                          <p:spTgt spid="8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7" dur="1000" fill="hold"/>
                                        <p:tgtEl>
                                          <p:spTgt spid="8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1000" fill="hold"/>
                                        <p:tgtEl>
                                          <p:spTgt spid="8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99" dur="100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nodeType="clickEffect" fill="hold">
                      <p:stCondLst>
                        <p:cond delay="indefinite"/>
                      </p:stCondLst>
                      <p:childTnLst>
                        <p:par>
                          <p:cTn id="9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4" dur="1000"/>
                                        <p:tgtEl>
                                          <p:spTgt spid="8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5" dur="1000" fill="hold"/>
                                        <p:tgtEl>
                                          <p:spTgt spid="8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6" dur="1000" fill="hold"/>
                                        <p:tgtEl>
                                          <p:spTgt spid="8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9" dur="1000"/>
                                        <p:tgtEl>
                                          <p:spTgt spid="8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0" dur="1000" fill="hold"/>
                                        <p:tgtEl>
                                          <p:spTgt spid="8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1" dur="1000" fill="hold"/>
                                        <p:tgtEl>
                                          <p:spTgt spid="8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4" dur="10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5" dur="1000" fill="hold"/>
                                        <p:tgtEl>
                                          <p:spTgt spid="8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1000" fill="hold"/>
                                        <p:tgtEl>
                                          <p:spTgt spid="8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1000"/>
                                        <p:tgtEl>
                                          <p:spTgt spid="8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0" dur="10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10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1116000" y="0"/>
            <a:ext cx="2168640" cy="836640"/>
          </a:xfrm>
          <a:prstGeom prst="rect">
            <a:avLst/>
          </a:prstGeom>
          <a:solidFill>
            <a:srgbClr val="9bbd98"/>
          </a:solidFill>
          <a:ln w="9360">
            <a:solidFill>
              <a:srgbClr val="9bbd98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62699"/>
                </a:solidFill>
                <a:latin typeface="楷体"/>
                <a:ea typeface="楷体"/>
              </a:rPr>
              <a:t>解剖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5" name="TextBox 3"/>
          <p:cNvSpPr/>
          <p:nvPr/>
        </p:nvSpPr>
        <p:spPr>
          <a:xfrm>
            <a:off x="1692360" y="1341360"/>
            <a:ext cx="6572160" cy="453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鼻腔：短、狭、嫩、血管多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鼻窦：口大、上颌窦、筛窦易感染</a:t>
            </a:r>
            <a:r>
              <a:rPr b="0" lang="zh-CN" sz="2400" spc="-1" strike="noStrike" u="sng">
                <a:solidFill>
                  <a:srgbClr val="d1b6dc"/>
                </a:solidFill>
                <a:uFillTx/>
                <a:latin typeface="楷体"/>
                <a:hlinkClick r:id="rId1" action="ppaction://hlinksldjump"/>
              </a:rPr>
              <a:t>_x000b_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咽鼓管：宽、直、短、平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扁桃体：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喉 部：漏斗形、腔窄、声门裂相对窄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86" name="左大括号 5"/>
          <p:cNvSpPr/>
          <p:nvPr/>
        </p:nvSpPr>
        <p:spPr>
          <a:xfrm>
            <a:off x="1332000" y="1413000"/>
            <a:ext cx="431640" cy="4680000"/>
          </a:xfrm>
          <a:custGeom>
            <a:avLst/>
            <a:gdLst>
              <a:gd name="textAreaLeft" fmla="*/ 275760 w 431640"/>
              <a:gd name="textAreaRight" fmla="*/ 432000 w 431640"/>
              <a:gd name="textAreaTop" fmla="*/ 11160 h 4680000"/>
              <a:gd name="textAreaBottom" fmla="*/ 4668840 h 468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3"/>
                  <a:pt x="10800" y="166"/>
                </a:cubicBezTo>
                <a:lnTo>
                  <a:pt x="10800" y="10634"/>
                </a:lnTo>
                <a:cubicBezTo>
                  <a:pt x="10800" y="10717"/>
                  <a:pt x="5400" y="10800"/>
                  <a:pt x="0" y="10800"/>
                </a:cubicBezTo>
                <a:cubicBezTo>
                  <a:pt x="5400" y="10800"/>
                  <a:pt x="10800" y="10883"/>
                  <a:pt x="10800" y="10966"/>
                </a:cubicBezTo>
                <a:lnTo>
                  <a:pt x="10800" y="21434"/>
                </a:lnTo>
                <a:cubicBezTo>
                  <a:pt x="10800" y="21517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cbdbca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eee08e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87" name="TextBox 8"/>
          <p:cNvSpPr/>
          <p:nvPr/>
        </p:nvSpPr>
        <p:spPr>
          <a:xfrm>
            <a:off x="749160" y="3141720"/>
            <a:ext cx="546120" cy="29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上呼吸道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688" name="图片 1" descr=""/>
          <p:cNvPicPr/>
          <p:nvPr/>
        </p:nvPicPr>
        <p:blipFill>
          <a:blip r:embed="rId2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23875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611280" y="980640"/>
            <a:ext cx="8208720" cy="570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轻症肺炎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症状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发热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咳嗽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气促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全身症状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体征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呼吸加快，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40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80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次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分，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鼻翼扇动、点头呼吸、三凹征、发绀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肺部中、细湿啰音       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99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22" dur="indefinite" restart="never" nodeType="tmRoot">
          <p:childTnLst>
            <p:seq>
              <p:cTn id="923" dur="indefinite" nodeType="mainSeq">
                <p:childTnLst>
                  <p:par>
                    <p:cTn id="924" nodeType="clickEffect" fill="hold">
                      <p:stCondLst>
                        <p:cond delay="indefinite"/>
                      </p:stCondLst>
                      <p:childTnLst>
                        <p:par>
                          <p:cTn id="9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2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3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1" name="Oval 3"/>
          <p:cNvSpPr/>
          <p:nvPr/>
        </p:nvSpPr>
        <p:spPr>
          <a:xfrm>
            <a:off x="1066680" y="2344680"/>
            <a:ext cx="2286000" cy="129528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ee08e"/>
                </a:solidFill>
                <a:latin typeface="Arial"/>
                <a:ea typeface="隶书"/>
              </a:rPr>
              <a:t>呼吸系统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902" name="Oval 4"/>
          <p:cNvSpPr/>
          <p:nvPr/>
        </p:nvSpPr>
        <p:spPr>
          <a:xfrm>
            <a:off x="5638680" y="2344680"/>
            <a:ext cx="2286000" cy="129528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ee08e"/>
                </a:solidFill>
                <a:latin typeface="Arial"/>
                <a:ea typeface="隶书"/>
              </a:rPr>
              <a:t>循环系统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903" name="Oval 5"/>
          <p:cNvSpPr/>
          <p:nvPr/>
        </p:nvSpPr>
        <p:spPr>
          <a:xfrm>
            <a:off x="1357200" y="5105520"/>
            <a:ext cx="2286000" cy="129528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ee08e"/>
                </a:solidFill>
                <a:latin typeface="Arial"/>
                <a:ea typeface="隶书"/>
              </a:rPr>
              <a:t>消化系统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904" name="Oval 6"/>
          <p:cNvSpPr/>
          <p:nvPr/>
        </p:nvSpPr>
        <p:spPr>
          <a:xfrm>
            <a:off x="5486400" y="4782960"/>
            <a:ext cx="2286000" cy="129564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ee08e"/>
                </a:solidFill>
                <a:latin typeface="Arial"/>
                <a:ea typeface="隶书"/>
              </a:rPr>
              <a:t>神经系统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905" name="Picture 7" descr="fc_haien"/>
          <p:cNvPicPr/>
          <p:nvPr/>
        </p:nvPicPr>
        <p:blipFill>
          <a:blip r:embed="rId5"/>
          <a:stretch/>
        </p:blipFill>
        <p:spPr>
          <a:xfrm>
            <a:off x="3124080" y="2954160"/>
            <a:ext cx="2828880" cy="2506680"/>
          </a:xfrm>
          <a:prstGeom prst="rect">
            <a:avLst/>
          </a:prstGeom>
          <a:ln w="0">
            <a:noFill/>
          </a:ln>
        </p:spPr>
      </p:pic>
      <p:sp>
        <p:nvSpPr>
          <p:cNvPr id="906" name="Rectangle 8"/>
          <p:cNvSpPr/>
          <p:nvPr/>
        </p:nvSpPr>
        <p:spPr>
          <a:xfrm>
            <a:off x="826920" y="1052640"/>
            <a:ext cx="374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重症肺炎</a:t>
            </a:r>
            <a:endParaRPr b="0" lang="en-US" sz="28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907" name="图片 1" descr=""/>
          <p:cNvPicPr/>
          <p:nvPr/>
        </p:nvPicPr>
        <p:blipFill>
          <a:blip r:embed="rId6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2" dur="indefinite" restart="never" nodeType="tmRoot">
          <p:childTnLst>
            <p:seq>
              <p:cTn id="933" dur="indefinite" nodeType="mainSeq">
                <p:childTnLst>
                  <p:par>
                    <p:cTn id="934" nodeType="clickEffect" fill="hold">
                      <p:stCondLst>
                        <p:cond delay="indefinite"/>
                      </p:stCondLst>
                      <p:childTnLst>
                        <p:par>
                          <p:cTn id="9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3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84360" y="620640"/>
            <a:ext cx="5472000" cy="10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临床表现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重症肺炎）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楷体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循环系统：心肌炎、心力衰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楷体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心肌炎：面色苍白、心动过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心音低钝、心律不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0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42" dur="indefinite" restart="never" nodeType="tmRoot">
          <p:childTnLst>
            <p:seq>
              <p:cTn id="943" dur="indefinite" nodeType="mainSeq">
                <p:childTnLst>
                  <p:par>
                    <p:cTn id="944" nodeType="clickEffect" fill="hold">
                      <p:stCondLst>
                        <p:cond delay="indefinite"/>
                      </p:stCondLst>
                      <p:childTnLst>
                        <p:par>
                          <p:cTn id="9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4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临床表现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重症肺炎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755640" y="1197000"/>
            <a:ext cx="7920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"/>
              </a:rPr>
              <a:t>心力衰竭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呼吸突然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60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次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分；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心率突然婴儿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80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次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分，幼儿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60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次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分；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极度烦躁不安，明显发绀，面色苍白、发灰，指趾甲微血管再充盈时间延长。以上三项不能用发热、肺炎本身和其他并发症解释；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心音低钝，奔马律、颈静脉怒张；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肝迅速增大；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尿少或无尿，眼睑或双下肢水肿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具备前五项就可诊断肺炎合并心力衰竭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13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52" dur="indefinite" restart="never" nodeType="tmRoot">
          <p:childTnLst>
            <p:seq>
              <p:cTn id="953" dur="indefinite" nodeType="mainSeq">
                <p:childTnLst>
                  <p:par>
                    <p:cTn id="954" nodeType="clickEffect" fill="hold">
                      <p:stCondLst>
                        <p:cond delay="indefinite"/>
                      </p:stCondLst>
                      <p:childTnLst>
                        <p:par>
                          <p:cTn id="9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5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6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914400" y="188640"/>
            <a:ext cx="82296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临床表现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重症肺炎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-684360" y="2133360"/>
            <a:ext cx="92887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600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"/>
              </a:rPr>
              <a:t>神经系统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脑水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中毒性脑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6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62" dur="indefinite" restart="never" nodeType="tmRoot">
          <p:childTnLst>
            <p:seq>
              <p:cTn id="963" dur="indefinite" nodeType="mainSeq">
                <p:childTnLst>
                  <p:par>
                    <p:cTn id="964" nodeType="clickEffect" fill="hold">
                      <p:stCondLst>
                        <p:cond delay="indefinite"/>
                      </p:stCondLst>
                      <p:childTnLst>
                        <p:par>
                          <p:cTn id="9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6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临床表现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重症肺炎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-612720" y="1989000"/>
            <a:ext cx="7129440" cy="409896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lvl="3" marL="1600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"/>
              </a:rPr>
              <a:t>消化系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食欲减退、呕吐、腹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中毒性肠麻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消化道出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19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82296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684000" y="1447920"/>
            <a:ext cx="88549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血常规检查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细菌性肺炎白细胞计数升高、中性粒细胞增多；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病毒性肺炎白细胞大多正常或偏低，淋巴细胞增高或出现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异性淋巴细胞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2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837720" y="764640"/>
            <a:ext cx="8077320" cy="555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C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反应蛋白（</a:t>
            </a:r>
            <a:r>
              <a:rPr b="0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CRP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细菌感染时血清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CRP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值多上升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非细菌性感染时上升不明显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5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"/>
              </a:rPr>
              <a:t>病原学检查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_GB2312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咽拭子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痰液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肺泡灌洗液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血标本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肺穿刺组织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8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837720" y="1557360"/>
            <a:ext cx="8077320" cy="47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胸部</a:t>
            </a:r>
            <a:r>
              <a:rPr b="0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X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线检查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肺纹理增粗，点片状阴影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31" name="Picture 5" descr="P1010010"/>
          <p:cNvPicPr/>
          <p:nvPr/>
        </p:nvPicPr>
        <p:blipFill>
          <a:blip r:embed="rId1">
            <a:lum bright="6000"/>
          </a:blip>
          <a:srcRect l="3735" t="16447" r="5121" b="21303"/>
          <a:stretch/>
        </p:blipFill>
        <p:spPr>
          <a:xfrm>
            <a:off x="5076720" y="3429000"/>
            <a:ext cx="3888000" cy="2941560"/>
          </a:xfrm>
          <a:prstGeom prst="rect">
            <a:avLst/>
          </a:prstGeom>
          <a:ln w="0">
            <a:noFill/>
          </a:ln>
        </p:spPr>
      </p:pic>
      <p:pic>
        <p:nvPicPr>
          <p:cNvPr id="932" name="图片 1" descr=""/>
          <p:cNvPicPr/>
          <p:nvPr/>
        </p:nvPicPr>
        <p:blipFill>
          <a:blip r:embed="rId2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72" dur="indefinite" restart="never" nodeType="tmRoot">
          <p:childTnLst>
            <p:seq>
              <p:cTn id="973" dur="indefinite" nodeType="mainSeq">
                <p:childTnLst>
                  <p:par>
                    <p:cTn id="974" nodeType="clickEffect" fill="hold">
                      <p:stCondLst>
                        <p:cond delay="0"/>
                      </p:stCondLst>
                      <p:childTnLst>
                        <p:par>
                          <p:cTn id="9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8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Text Box 5"/>
          <p:cNvSpPr/>
          <p:nvPr/>
        </p:nvSpPr>
        <p:spPr>
          <a:xfrm>
            <a:off x="1619280" y="4941720"/>
            <a:ext cx="6481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690" name="Picture 10" descr="图片2"/>
          <p:cNvPicPr/>
          <p:nvPr/>
        </p:nvPicPr>
        <p:blipFill>
          <a:blip r:embed="rId1"/>
          <a:stretch/>
        </p:blipFill>
        <p:spPr>
          <a:xfrm>
            <a:off x="826920" y="907920"/>
            <a:ext cx="8317080" cy="5950080"/>
          </a:xfrm>
          <a:prstGeom prst="rect">
            <a:avLst/>
          </a:prstGeom>
          <a:ln w="0">
            <a:noFill/>
          </a:ln>
        </p:spPr>
      </p:pic>
      <p:sp>
        <p:nvSpPr>
          <p:cNvPr id="691" name="Text Box 11"/>
          <p:cNvSpPr/>
          <p:nvPr/>
        </p:nvSpPr>
        <p:spPr>
          <a:xfrm>
            <a:off x="3930480" y="5259240"/>
            <a:ext cx="6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62699"/>
                </a:solidFill>
                <a:latin typeface="楷体_GB2312"/>
                <a:ea typeface="楷体_GB2312"/>
              </a:rPr>
              <a:t>鼻窦</a:t>
            </a:r>
            <a:endParaRPr b="0" lang="en-US" sz="28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692" name="图片 1" descr=""/>
          <p:cNvPicPr/>
          <p:nvPr/>
        </p:nvPicPr>
        <p:blipFill>
          <a:blip r:embed="rId2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3" dur="20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"/>
              </a:rPr>
              <a:t>采用综合治疗措施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积极控制感染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改善肺通气功能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加强护理和对症治疗           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积极防治并发症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35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"/>
              </a:rPr>
              <a:t>一般治疗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居室或病室室温以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8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0℃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、相对湿度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60%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为宜，注意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防止交叉感染；保持呼吸道通畅；保持呼吸道湿润，注意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变换体位、拍背，以利痰液排出；给予易消化且富含蛋白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质和维生素的饮食。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38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"/>
              </a:rPr>
              <a:t>病原治疗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抗生素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原则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：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根据病原菌选用敏感药物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  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早期治疗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  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联合治疗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  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选用渗入下呼吸道浓度高的药物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足量、足疗程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重症宜经静脉途径给药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41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826560" y="549360"/>
            <a:ext cx="8077320" cy="57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根据病原菌选用敏感药物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肺炎链球菌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：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青霉素敏感者首选青霉素或阿莫西林；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               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青霉素过敏者选用大环内酯类抗生素。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Verdana"/>
                <a:ea typeface="楷体"/>
              </a:rPr>
              <a:t>金黄色葡萄球菌：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甲氧西林敏感着首选苯唑西林钠或氯唑西林钠； 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                    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耐药者选用万古霉素或联合利福平。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Verdana"/>
                <a:ea typeface="楷体"/>
              </a:rPr>
              <a:t>流感嗜血杆菌：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首选阿莫西林加克拉维酸（或加舒巴坦）。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大肠埃希菌和肺炎杆菌：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首选头孢曲松或头孢噻肟。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铜绿假单胞菌：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首选替卡西林加克拉维酸。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Verdana"/>
                <a:ea typeface="楷体"/>
              </a:rPr>
              <a:t>肺炎支原体和衣原体：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楷体"/>
              </a:rPr>
              <a:t>首选大环内酯类抗生素。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Verdana"/>
                <a:ea typeface="楷体"/>
              </a:rPr>
              <a:t>真菌性肺炎：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可选用两性霉素</a:t>
            </a: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B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、氟康唑、伏立康唑等。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44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抗生素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疗程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：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一般用至体温正常后的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7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天，临床症状、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体征消失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天。葡萄球菌肺炎易复发及产生并发症，体温正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常后继续用药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周，总疗程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周。支原体肺炎至少用药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周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47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"/>
              </a:rPr>
              <a:t>抗病毒治疗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支持疗法、对症疗法和加强护理等居重要地位，有肯定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疗效的抗病毒药物减少。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50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684000" y="1066320"/>
            <a:ext cx="81356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"/>
              </a:rPr>
              <a:t>对症治疗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有缺氧症状时应及时吸氧。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发热、咳嗽、咳痰者，给予退热、祛痰、止咳，保持        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呼吸道通畅。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喘憋明显者可用支气管解痉剂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腹胀低钾者及时补钾，中毒性肠麻痹给予禁食、胃肠减压。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电解质和酸解失衡者给予纠正水、电解质、酸碱平衡紊乱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 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53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755640" y="1066320"/>
            <a:ext cx="81597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"/>
              </a:rPr>
              <a:t>糖皮质激素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无需常规使用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应用指征：喘憋明显伴呼吸道分泌物增多者；中毒症状明显的重症肺炎，如合并中毒性脑病、休克、脓毒症者；有急性肺损伤或全身炎症反应综合征者；短期内胸腔内有大量渗出者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56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"/>
              </a:rPr>
              <a:t>其他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</a:t>
            </a:r>
            <a:r>
              <a:rPr b="0" lang="zh-CN" sz="2400" spc="-1" strike="noStrike">
                <a:solidFill>
                  <a:srgbClr val="3333cc"/>
                </a:solidFill>
                <a:latin typeface="楷体"/>
                <a:ea typeface="楷体"/>
              </a:rPr>
              <a:t>肺炎合并心力衰竭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治疗原则为镇静、吸氧、强心、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利尿和应用血管活性药物。可用水合氯醛射肛给药镇静；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选用具有正性肌力、负性频率作用的快速洋地黄制剂，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毛花苷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或毒毛花苷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K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；尿少伴水肿者可用呋塞米利尿；血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管活性药物选酚妥拉明等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59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"/>
              </a:rPr>
              <a:t>其他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0" lang="zh-CN" sz="2400" spc="-1" strike="noStrike">
                <a:solidFill>
                  <a:srgbClr val="3333cc"/>
                </a:solidFill>
                <a:latin typeface="楷体"/>
                <a:ea typeface="楷体"/>
              </a:rPr>
              <a:t>中毒性脑病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纠正缺氧和减轻脑水肿。用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0%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甘露醇静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脉注射，辅以地塞米松和呋塞米降颅压。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62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3" name="Picture 3" descr="3bb22487c9531c39c65cc333"/>
          <p:cNvPicPr/>
          <p:nvPr/>
        </p:nvPicPr>
        <p:blipFill>
          <a:blip r:embed="rId1"/>
          <a:stretch/>
        </p:blipFill>
        <p:spPr>
          <a:xfrm>
            <a:off x="900000" y="1197000"/>
            <a:ext cx="8244000" cy="5661000"/>
          </a:xfrm>
          <a:prstGeom prst="rect">
            <a:avLst/>
          </a:prstGeom>
          <a:ln w="0">
            <a:noFill/>
          </a:ln>
        </p:spPr>
      </p:pic>
      <p:pic>
        <p:nvPicPr>
          <p:cNvPr id="694" name="图片 1" descr=""/>
          <p:cNvPicPr/>
          <p:nvPr/>
        </p:nvPicPr>
        <p:blipFill>
          <a:blip r:embed="rId2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0" dur="20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"/>
              </a:rPr>
              <a:t>其他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0" lang="zh-CN" sz="2400" spc="-1" strike="noStrike">
                <a:solidFill>
                  <a:srgbClr val="3333cc"/>
                </a:solidFill>
                <a:latin typeface="楷体"/>
                <a:ea typeface="楷体"/>
              </a:rPr>
              <a:t>生物制剂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重症患儿可静脉注射人血丙种球蛋白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400mg/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kg·d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，连用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天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65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护理评估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837720" y="1557360"/>
            <a:ext cx="8077320" cy="47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健康史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身体状况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心理</a:t>
            </a:r>
            <a:r>
              <a:rPr b="0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社会状况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68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826920" y="1052640"/>
            <a:ext cx="849816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清理呼吸道无效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与呼吸道分泌过多、痰液黏稠、咳嗽无力有关。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气体交换受损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与肺部炎症致通气、换气功能障碍有关。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体温过高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与肺部感染有关。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潜在并发症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：心力衰竭、中毒性脑病、中毒性肠麻痹等。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营养失调：低于机体需要量  与摄入不足、消耗增加有关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71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护理措施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826560" y="1052640"/>
            <a:ext cx="807732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5000"/>
          </a:bodyPr>
          <a:p>
            <a:pPr marL="188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188640" indent="-188640">
              <a:spcBef>
                <a:spcPts val="700"/>
              </a:spcBef>
              <a:buClr>
                <a:srgbClr val="3333cc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"/>
              </a:rPr>
              <a:t>保持呼吸道通畅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8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8640" indent="-1886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改善呼吸功能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8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8640" indent="-1886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维持体温正常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8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8640" indent="-1886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密切观察病情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8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8640" indent="-1886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健康指导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8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8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188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188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188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188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188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8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8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8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8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8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8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74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/>
          </p:nvPr>
        </p:nvSpPr>
        <p:spPr>
          <a:xfrm>
            <a:off x="395280" y="170028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呼吸道合胞病毒（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RSV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感染所致，是最常见的病毒性肺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多见于婴幼儿，尤其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岁以内的婴儿多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肺部体较早：哮鸣音、呼吸音减弱、湿啰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小点片状薄阴影、梗阻性肺气肿、支气管周围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白细胞大多正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抗病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76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  <p:sp>
        <p:nvSpPr>
          <p:cNvPr id="977" name="Text Box 5"/>
          <p:cNvSpPr/>
          <p:nvPr/>
        </p:nvSpPr>
        <p:spPr>
          <a:xfrm>
            <a:off x="1495800" y="20808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呼吸道合胞病毒肺炎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</p:spTree>
  </p:cSld>
  <p:timing>
    <p:tnLst>
      <p:par>
        <p:cTn id="979" dur="indefinite" restart="never" nodeType="tmRoot">
          <p:childTnLst>
            <p:seq>
              <p:cTn id="980" dur="indefinite" nodeType="mainSeq">
                <p:childTnLst>
                  <p:par>
                    <p:cTn id="981" nodeType="clickEffect" fill="hold">
                      <p:stCondLst>
                        <p:cond delay="indefinite"/>
                      </p:stCondLst>
                      <p:childTnLst>
                        <p:par>
                          <p:cTn id="9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8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8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/>
          </p:nvPr>
        </p:nvSpPr>
        <p:spPr>
          <a:xfrm>
            <a:off x="900000" y="14479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多见于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岁幼儿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起病急骤，全身中毒症状明显，稽留热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咳嗽频繁，可出现喘憋、呼吸困难、发绀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肺部体征出现晚，高热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7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天后出现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胸片改变较肺部体征早，大小不等的片状阴影、肺气肿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白细胞正常或偏低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抗病毒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9" name="Text Box 4"/>
          <p:cNvSpPr/>
          <p:nvPr/>
        </p:nvSpPr>
        <p:spPr>
          <a:xfrm>
            <a:off x="755640" y="260280"/>
            <a:ext cx="264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腺病毒肺炎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980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89" dur="indefinite" restart="never" nodeType="tmRoot">
          <p:childTnLst>
            <p:seq>
              <p:cTn id="990" dur="indefinite" nodeType="mainSeq">
                <p:childTnLst>
                  <p:par>
                    <p:cTn id="991" nodeType="clickEffect" fill="hold">
                      <p:stCondLst>
                        <p:cond delay="indefinite"/>
                      </p:stCondLst>
                      <p:childTnLst>
                        <p:par>
                          <p:cTn id="9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9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9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755280" y="-171360"/>
            <a:ext cx="72565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金黄色葡萄球菌肺炎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611280" y="1447920"/>
            <a:ext cx="85327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多见于新生儿及婴幼儿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起病急，病程重，发展快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发热为弛张热，皮肤有猩红样皮疹，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中毒症状明显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肺部体征出现早，可闻及中、细湿啰音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易并发脓胸、脓气胸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白细胞总数及中性粒细胞增多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治疗：苯唑西林钠等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83" name="Picture 4" descr="u=3533083051,1464226642&amp;fm=15&amp;gp=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705720" y="4876920"/>
            <a:ext cx="2438280" cy="1981080"/>
          </a:xfrm>
          <a:prstGeom prst="rect">
            <a:avLst/>
          </a:prstGeom>
          <a:ln w="0">
            <a:noFill/>
          </a:ln>
        </p:spPr>
      </p:pic>
      <p:pic>
        <p:nvPicPr>
          <p:cNvPr id="984" name="图片 1" descr=""/>
          <p:cNvPicPr/>
          <p:nvPr/>
        </p:nvPicPr>
        <p:blipFill>
          <a:blip r:embed="rId3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99" dur="indefinite" restart="never" nodeType="tmRoot">
          <p:childTnLst>
            <p:seq>
              <p:cTn id="1000" dur="indefinite" nodeType="mainSeq">
                <p:childTnLst>
                  <p:par>
                    <p:cTn id="1001" nodeType="clickEffect" fill="hold">
                      <p:stCondLst>
                        <p:cond delay="indefinite"/>
                      </p:stCondLst>
                      <p:childTnLst>
                        <p:par>
                          <p:cTn id="10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0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0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肺炎支原体肺炎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684360" y="105264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起病缓慢，持续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周，多见于年长儿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刺激性干咳为突出表现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肺部体征不明显，中毒症状不重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三痛：咽、胸、肌痛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多系统损害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线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种改变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肺门阴影增浓为突出表现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支气管肺炎改变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间质性肺炎改变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均一的实变影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白细胞正常或增多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大环内酯类药物：阿奇霉素、红霉素、克林霉素等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87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09" dur="indefinite" restart="never" nodeType="tmRoot">
          <p:childTnLst>
            <p:seq>
              <p:cTn id="1010" dur="indefinite" nodeType="mainSeq">
                <p:childTnLst>
                  <p:par>
                    <p:cTn id="1011" nodeType="clickEffect" fill="hold">
                      <p:stCondLst>
                        <p:cond delay="indefinite"/>
                      </p:stCondLst>
                      <p:childTnLst>
                        <p:par>
                          <p:cTn id="10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1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1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684000" y="188640"/>
            <a:ext cx="6553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第五节  支气管哮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468000" y="1197000"/>
            <a:ext cx="867564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简称哮喘，是由多种细胞（肥大细胞、嗜酸性粒细胞和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T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淋巴细胞、中性粒细胞、气道上皮细胞等）参与的气道慢性炎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症性疾病，引起气道高反应导致可逆性气道阻塞。临床表现为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反复发作性喘息、呼吸困难、胸闷或咳嗽，常在夜间和（或）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清晨发作或加剧，多数患儿可经治疗缓解或自行缓解。全球约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有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.6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亿患者，发达国家高于发展中国家，城市高于农村。儿童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哮喘如诊治不及时，随病程的延长可产生气道不可逆性狭窄和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气道重塑。因此，早期防治很重要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90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684000" y="188640"/>
            <a:ext cx="38271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病因及发病机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611280" y="1412640"/>
            <a:ext cx="8532720" cy="58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哮喘的病因还不十分清楚，患者个体过敏体质及外界环境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的影响是发病的危险因素。哮喘与多基因遗传有关，同时受遗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传因素和环境因素的双重影响。多数患儿既往有婴儿湿疹、变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异性鼻炎、药物或食物过敏，不少患儿有家族史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endParaRPr b="1" lang="en-US" sz="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93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nodeType="clickEffect" fill="hold">
                      <p:stCondLst>
                        <p:cond delay="indefinite"/>
                      </p:stCondLst>
                      <p:childTnLst>
                        <p:par>
                          <p:cTn id="10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5" dur="500" fill="hold"/>
                                        <p:tgtEl>
                                          <p:spTgt spid="9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6" dur="500" fill="hold"/>
                                        <p:tgtEl>
                                          <p:spTgt spid="9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7" dur="500" fill="hold"/>
                                        <p:tgtEl>
                                          <p:spTgt spid="9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8" dur="500" fill="hold"/>
                                        <p:tgtEl>
                                          <p:spTgt spid="9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9" dur="500"/>
                                        <p:tgtEl>
                                          <p:spTgt spid="9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nodeType="clickEffect" fill="hold">
                      <p:stCondLst>
                        <p:cond delay="indefinite"/>
                      </p:stCondLst>
                      <p:childTnLst>
                        <p:par>
                          <p:cTn id="10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4" dur="500" fill="hold"/>
                                        <p:tgtEl>
                                          <p:spTgt spid="9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5" dur="500" fill="hold"/>
                                        <p:tgtEl>
                                          <p:spTgt spid="9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6" dur="500" fill="hold"/>
                                        <p:tgtEl>
                                          <p:spTgt spid="9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7" dur="500" fill="hold"/>
                                        <p:tgtEl>
                                          <p:spTgt spid="9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9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9" nodeType="clickEffect" fill="hold">
                      <p:stCondLst>
                        <p:cond delay="indefinite"/>
                      </p:stCondLst>
                      <p:childTnLst>
                        <p:par>
                          <p:cTn id="10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3" dur="500" fill="hold"/>
                                        <p:tgtEl>
                                          <p:spTgt spid="9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4" dur="500" fill="hold"/>
                                        <p:tgtEl>
                                          <p:spTgt spid="9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5" dur="500" fill="hold"/>
                                        <p:tgtEl>
                                          <p:spTgt spid="9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6" dur="500" fill="hold"/>
                                        <p:tgtEl>
                                          <p:spTgt spid="9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7" dur="500"/>
                                        <p:tgtEl>
                                          <p:spTgt spid="9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nodeType="clickEffect" fill="hold">
                      <p:stCondLst>
                        <p:cond delay="indefinite"/>
                      </p:stCondLst>
                      <p:childTnLst>
                        <p:par>
                          <p:cTn id="10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2" dur="500" fill="hold"/>
                                        <p:tgtEl>
                                          <p:spTgt spid="9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3" dur="500" fill="hold"/>
                                        <p:tgtEl>
                                          <p:spTgt spid="9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4" dur="500" fill="hold"/>
                                        <p:tgtEl>
                                          <p:spTgt spid="9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5" dur="500" fill="hold"/>
                                        <p:tgtEl>
                                          <p:spTgt spid="9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6" dur="500"/>
                                        <p:tgtEl>
                                          <p:spTgt spid="9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7" nodeType="clickEffect" fill="hold">
                      <p:stCondLst>
                        <p:cond delay="indefinite"/>
                      </p:stCondLst>
                      <p:childTnLst>
                        <p:par>
                          <p:cTn id="10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1" dur="500" fill="hold"/>
                                        <p:tgtEl>
                                          <p:spTgt spid="9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2" dur="500" fill="hold"/>
                                        <p:tgtEl>
                                          <p:spTgt spid="9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3" dur="500" fill="hold"/>
                                        <p:tgtEl>
                                          <p:spTgt spid="9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4" dur="500" fill="hold"/>
                                        <p:tgtEl>
                                          <p:spTgt spid="9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9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Text Box 5"/>
          <p:cNvSpPr/>
          <p:nvPr/>
        </p:nvSpPr>
        <p:spPr>
          <a:xfrm>
            <a:off x="8532720" y="5805360"/>
            <a:ext cx="611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696" name="Picture 6" descr="01300000165488122413157483051_s"/>
          <p:cNvPicPr/>
          <p:nvPr/>
        </p:nvPicPr>
        <p:blipFill>
          <a:blip r:embed="rId1"/>
          <a:stretch/>
        </p:blipFill>
        <p:spPr>
          <a:xfrm>
            <a:off x="684360" y="981000"/>
            <a:ext cx="8459640" cy="5877000"/>
          </a:xfrm>
          <a:prstGeom prst="rect">
            <a:avLst/>
          </a:prstGeom>
          <a:ln w="0">
            <a:noFill/>
          </a:ln>
        </p:spPr>
      </p:pic>
      <p:pic>
        <p:nvPicPr>
          <p:cNvPr id="697" name="图片 1" descr=""/>
          <p:cNvPicPr/>
          <p:nvPr/>
        </p:nvPicPr>
        <p:blipFill>
          <a:blip r:embed="rId2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684000" y="188640"/>
            <a:ext cx="38271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病因及发病机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611280" y="1125360"/>
            <a:ext cx="8532720" cy="615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诱发因素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呼吸道感染：病毒感染是哮喘发作的重要原因，呼吸道合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 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胞病毒、流感病毒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非特异性刺激：尘螨、花粉、真菌、动物毛屑、化学气体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 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（二氧化硫）、烟、油漆等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气候变化：寒冷、空气干燥、大风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药物：阿司匹林、磺胺类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食物：鱼、虾蟹、蛋、牛奶、食品添加剂等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其他：大笑、过度兴奋、大哭、剧烈运动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endParaRPr b="1" lang="en-US" sz="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96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66" dur="indefinite" restart="never" nodeType="tmRoot">
          <p:childTnLst>
            <p:seq>
              <p:cTn id="1067" dur="indefinite" nodeType="mainSeq">
                <p:childTnLst>
                  <p:par>
                    <p:cTn id="1068" nodeType="clickEffect" fill="hold">
                      <p:stCondLst>
                        <p:cond delay="indefinite"/>
                      </p:stCondLst>
                      <p:childTnLst>
                        <p:par>
                          <p:cTn id="10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2" dur="500" fill="hold"/>
                                        <p:tgtEl>
                                          <p:spTgt spid="9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3" dur="500" fill="hold"/>
                                        <p:tgtEl>
                                          <p:spTgt spid="9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4" dur="500" fill="hold"/>
                                        <p:tgtEl>
                                          <p:spTgt spid="9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5" dur="500" fill="hold"/>
                                        <p:tgtEl>
                                          <p:spTgt spid="9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6" dur="500"/>
                                        <p:tgtEl>
                                          <p:spTgt spid="9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nodeType="clickEffect" fill="hold">
                      <p:stCondLst>
                        <p:cond delay="indefinite"/>
                      </p:stCondLst>
                      <p:childTnLst>
                        <p:par>
                          <p:cTn id="10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1" dur="500" fill="hold"/>
                                        <p:tgtEl>
                                          <p:spTgt spid="9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2" dur="500" fill="hold"/>
                                        <p:tgtEl>
                                          <p:spTgt spid="9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3" dur="500" fill="hold"/>
                                        <p:tgtEl>
                                          <p:spTgt spid="9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4" dur="500" fill="hold"/>
                                        <p:tgtEl>
                                          <p:spTgt spid="9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5" dur="500"/>
                                        <p:tgtEl>
                                          <p:spTgt spid="9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6" nodeType="clickEffect" fill="hold">
                      <p:stCondLst>
                        <p:cond delay="indefinite"/>
                      </p:stCondLst>
                      <p:childTnLst>
                        <p:par>
                          <p:cTn id="10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0" dur="500" fill="hold"/>
                                        <p:tgtEl>
                                          <p:spTgt spid="9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1" dur="500" fill="hold"/>
                                        <p:tgtEl>
                                          <p:spTgt spid="9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2" dur="500" fill="hold"/>
                                        <p:tgtEl>
                                          <p:spTgt spid="9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3" dur="500" fill="hold"/>
                                        <p:tgtEl>
                                          <p:spTgt spid="9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4" dur="500"/>
                                        <p:tgtEl>
                                          <p:spTgt spid="9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nodeType="clickEffect" fill="hold">
                      <p:stCondLst>
                        <p:cond delay="indefinite"/>
                      </p:stCondLst>
                      <p:childTnLst>
                        <p:par>
                          <p:cTn id="10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9" dur="500" fill="hold"/>
                                        <p:tgtEl>
                                          <p:spTgt spid="9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0" dur="500" fill="hold"/>
                                        <p:tgtEl>
                                          <p:spTgt spid="9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1" dur="500" fill="hold"/>
                                        <p:tgtEl>
                                          <p:spTgt spid="9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2" dur="500" fill="hold"/>
                                        <p:tgtEl>
                                          <p:spTgt spid="9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3" dur="500"/>
                                        <p:tgtEl>
                                          <p:spTgt spid="9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4" nodeType="clickEffect" fill="hold">
                      <p:stCondLst>
                        <p:cond delay="indefinite"/>
                      </p:stCondLst>
                      <p:childTnLst>
                        <p:par>
                          <p:cTn id="1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8" dur="770"/>
                                        <p:tgtEl>
                                          <p:spTgt spid="9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09" dur="770" fill="hold"/>
                                        <p:tgtEl>
                                          <p:spTgt spid="9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1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11" dur="770" fill="hold"/>
                                        <p:tgtEl>
                                          <p:spTgt spid="9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1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3" dur="770" fill="hold"/>
                                        <p:tgtEl>
                                          <p:spTgt spid="9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1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nodeType="clickEffect" fill="hold">
                      <p:stCondLst>
                        <p:cond delay="indefinite"/>
                      </p:stCondLst>
                      <p:childTnLst>
                        <p:par>
                          <p:cTn id="1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9" dur="770"/>
                                        <p:tgtEl>
                                          <p:spTgt spid="9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20" dur="770" fill="hold"/>
                                        <p:tgtEl>
                                          <p:spTgt spid="9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22" dur="770" fill="hold"/>
                                        <p:tgtEl>
                                          <p:spTgt spid="9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24" dur="770" fill="hold"/>
                                        <p:tgtEl>
                                          <p:spTgt spid="9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2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8" dur="770"/>
                                        <p:tgtEl>
                                          <p:spTgt spid="9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29" dur="770" fill="hold"/>
                                        <p:tgtEl>
                                          <p:spTgt spid="9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31" dur="770" fill="hold"/>
                                        <p:tgtEl>
                                          <p:spTgt spid="9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33" dur="770" fill="hold"/>
                                        <p:tgtEl>
                                          <p:spTgt spid="9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770"/>
                                        <p:tgtEl>
                                          <p:spTgt spid="9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38" dur="770" fill="hold"/>
                                        <p:tgtEl>
                                          <p:spTgt spid="9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40" dur="770" fill="hold"/>
                                        <p:tgtEl>
                                          <p:spTgt spid="9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42" dur="770" fill="hold"/>
                                        <p:tgtEl>
                                          <p:spTgt spid="9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4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6" dur="770"/>
                                        <p:tgtEl>
                                          <p:spTgt spid="9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47" dur="770" fill="hold"/>
                                        <p:tgtEl>
                                          <p:spTgt spid="9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49" dur="770" fill="hold"/>
                                        <p:tgtEl>
                                          <p:spTgt spid="9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51" dur="770" fill="hold"/>
                                        <p:tgtEl>
                                          <p:spTgt spid="9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5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5" dur="770"/>
                                        <p:tgtEl>
                                          <p:spTgt spid="9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56" dur="770" fill="hold"/>
                                        <p:tgtEl>
                                          <p:spTgt spid="9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58" dur="770" fill="hold"/>
                                        <p:tgtEl>
                                          <p:spTgt spid="9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60" dur="770" fill="hold"/>
                                        <p:tgtEl>
                                          <p:spTgt spid="9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病 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826560" y="159984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气道炎症是哮喘的最主要病理改变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99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病理生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826560" y="159984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气流受限是哮喘病理生理改变的核心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支气管痉挛、管壁炎症性肿胀、黏液栓形成和气道重           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塑均是造成患儿气道受阻的原因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气道高反应性是哮喘的基本特征之一。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02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2487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39640" y="1412640"/>
            <a:ext cx="806472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"/>
              </a:rPr>
              <a:t>症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咳嗽和喘息呈阵发性发作，以夜间和清晨为重，发作前可有流涕、打喷嚏、胸闷，发作时呼吸困难，呼气相延长伴有喘鸣音。严重时呈端坐呼吸，恐惧不安、大汗淋漓、面色青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5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62" dur="indefinite" restart="never" nodeType="tmRoot">
          <p:childTnLst>
            <p:seq>
              <p:cTn id="1163" dur="indefinite" nodeType="mainSeq">
                <p:childTnLst>
                  <p:par>
                    <p:cTn id="1164" nodeType="clickEffect" fill="hold">
                      <p:stCondLst>
                        <p:cond delay="indefinite"/>
                      </p:stCondLst>
                      <p:childTnLst>
                        <p:par>
                          <p:cTn id="1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6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6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2487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826920" y="1773000"/>
            <a:ext cx="7848720" cy="533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楷体"/>
              </a:rPr>
              <a:t>体征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桶状胸、三凹征，肺部布满哮鸣音，严重者气道广泛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堵塞，哮鸣音反而消失，称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闭锁肺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，是哮喘最危险的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体征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08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72" dur="indefinite" restart="never" nodeType="tmRoot">
          <p:childTnLst>
            <p:seq>
              <p:cTn id="1173" dur="indefinite" nodeType="mainSeq">
                <p:childTnLst>
                  <p:par>
                    <p:cTn id="1174" nodeType="clickEffect" fill="hold">
                      <p:stCondLst>
                        <p:cond delay="indefinite"/>
                      </p:stCondLst>
                      <p:childTnLst>
                        <p:par>
                          <p:cTn id="1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7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7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2487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684000" y="1700280"/>
            <a:ext cx="845964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楷体"/>
              </a:rPr>
              <a:t>哮喘危重状态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哮喘发作在合理应用常规缓解药物治疗后仍有严重或进行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性的呼吸困难者，称为哮喘危重状态（哮喘持续状态）表现为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哮喘急性发作，出现咳嗽喘息、呼吸困难、大汗淋漓、烦躁不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安甚至表现为端坐呼吸、语言不连贯、严重发绀、意识障碍、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心肺功能不全的征象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11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82" dur="indefinite" restart="never" nodeType="tmRoot">
          <p:childTnLst>
            <p:seq>
              <p:cTn id="1183" dur="indefinite" nodeType="mainSeq">
                <p:childTnLst>
                  <p:par>
                    <p:cTn id="1184" nodeType="clickEffect" fill="hold">
                      <p:stCondLst>
                        <p:cond delay="indefinite"/>
                      </p:stCondLst>
                      <p:childTnLst>
                        <p:par>
                          <p:cTn id="1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8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8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楷体"/>
              </a:rPr>
              <a:t>儿童哮喘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判断标准：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反复发作喘息、咳嗽、气促、胸闷，多于接触变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应原、冷空气、物理或化学刺激、呼吸道感染及运动等有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关，常在夜间和（或）清晨发作或加剧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发作时在双肺可闻及散在或弥漫性，以呼气相为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主的哮鸣音，呼气相延长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上述症状和体征经抗哮喘治疗有效或自行缓解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除外其他疾病所引起的喘息、咳嗽、气促和胸闷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14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92" dur="indefinite" restart="never" nodeType="tmRoot">
          <p:childTnLst>
            <p:seq>
              <p:cTn id="1193" dur="indefinite" nodeType="mainSeq">
                <p:childTnLst>
                  <p:par>
                    <p:cTn id="1194" nodeType="clickEffect" fill="hold">
                      <p:stCondLst>
                        <p:cond delay="indefinite"/>
                      </p:stCondLst>
                      <p:childTnLst>
                        <p:par>
                          <p:cTn id="1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9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826560" y="1268280"/>
            <a:ext cx="807732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楷体"/>
              </a:rPr>
              <a:t>儿童哮喘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判断标准：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临床表现不典型者（无明显喘息或哮鸣音），应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至少具备以下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项：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①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支气管激发试验或运动激发试验阳性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②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证实存在可逆性气流受限：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支气管舒张实验阳性：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吸入速效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受体激动剂后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5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分钟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FE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增加≥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2﹪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；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抗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哮喘喘治疗有效：使用支气管舒张剂和口服（或吸入）糖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皮质激素治疗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周后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FE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增加≥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2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％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③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PEF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每日变异率（连续监测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周）≥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0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％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符合第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~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条或第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条者，可以诊断为哮喘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17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02" dur="indefinite" restart="never" nodeType="tmRoot">
          <p:childTnLst>
            <p:seq>
              <p:cTn id="1203" dur="indefinite" nodeType="mainSeq">
                <p:childTnLst>
                  <p:par>
                    <p:cTn id="1204" nodeType="clickEffect" fill="hold">
                      <p:stCondLst>
                        <p:cond delay="indefinite"/>
                      </p:stCondLst>
                      <p:childTnLst>
                        <p:par>
                          <p:cTn id="1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0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1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610920" y="1196640"/>
            <a:ext cx="8713800" cy="512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咳嗽变异性哮喘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判断标准：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）咳嗽持续＞</a:t>
            </a: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周，常在夜间和（或）清晨发作或加剧，以干咳为主。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）临床上无感染征象，或经较长时间抗生素治疗无效。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）抗哮喘药物诊断性治疗有效。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）排除其他原因引起的慢性咳嗽。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5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）支取管激发试验阳性和（或）</a:t>
            </a: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PEF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每日变异率（连续监测</a:t>
            </a: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～</a:t>
            </a: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周）≥</a:t>
            </a: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20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％。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6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）个人或一级、二级亲属有特异性疾病史，或变应原测试阳性。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以上</a:t>
            </a: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）～</a:t>
            </a: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）项为诊断的基本条件。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20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12" dur="indefinite" restart="never" nodeType="tmRoot">
          <p:childTnLst>
            <p:seq>
              <p:cTn id="1213" dur="indefinite" nodeType="mainSeq">
                <p:childTnLst>
                  <p:par>
                    <p:cTn id="1214" nodeType="clickEffect" fill="hold">
                      <p:stCondLst>
                        <p:cond delay="indefinite"/>
                      </p:stCondLst>
                      <p:childTnLst>
                        <p:par>
                          <p:cTn id="1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1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900000" y="1268280"/>
            <a:ext cx="8244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楷体"/>
              </a:rPr>
              <a:t>肺功能检查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主要用于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岁以上患儿。常用的指标有第一秒呼气容积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FE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、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FE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/FE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预计值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%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、用力肺活量（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FVC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、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FE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/FVC%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及呼气峰流速（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PEF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。支气管舒张试验反映了可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逆性气道阻塞，是哮喘诊断依据之一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23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22" dur="indefinite" restart="never" nodeType="tmRoot">
          <p:childTnLst>
            <p:seq>
              <p:cTn id="1223" dur="indefinite" nodeType="mainSeq">
                <p:childTnLst>
                  <p:par>
                    <p:cTn id="1224" nodeType="clickEffect" fill="hold">
                      <p:stCondLst>
                        <p:cond delay="indefinite"/>
                      </p:stCondLst>
                      <p:childTnLst>
                        <p:par>
                          <p:cTn id="1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28" dur="20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971280" y="0"/>
            <a:ext cx="2313000" cy="836640"/>
          </a:xfrm>
          <a:prstGeom prst="rect">
            <a:avLst/>
          </a:prstGeom>
          <a:solidFill>
            <a:srgbClr val="9bbd98"/>
          </a:solidFill>
          <a:ln w="9360">
            <a:solidFill>
              <a:srgbClr val="9bbd98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62699"/>
                </a:solidFill>
                <a:latin typeface="楷体"/>
                <a:ea typeface="楷体"/>
              </a:rPr>
              <a:t>解剖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9" name="TextBox 4"/>
          <p:cNvSpPr/>
          <p:nvPr/>
        </p:nvSpPr>
        <p:spPr>
          <a:xfrm>
            <a:off x="311040" y="2781360"/>
            <a:ext cx="103356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下呼吸道</a:t>
            </a:r>
            <a:endParaRPr b="0" lang="en-US" sz="2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700" name="左大括号 5"/>
          <p:cNvSpPr/>
          <p:nvPr/>
        </p:nvSpPr>
        <p:spPr>
          <a:xfrm>
            <a:off x="1332000" y="2492280"/>
            <a:ext cx="571320" cy="2357640"/>
          </a:xfrm>
          <a:custGeom>
            <a:avLst/>
            <a:gdLst>
              <a:gd name="textAreaLeft" fmla="*/ 365040 w 571320"/>
              <a:gd name="textAreaRight" fmla="*/ 571680 w 571320"/>
              <a:gd name="textAreaTop" fmla="*/ 14760 h 2357640"/>
              <a:gd name="textAreaBottom" fmla="*/ 2342880 h 235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18"/>
                  <a:pt x="10800" y="436"/>
                </a:cubicBezTo>
                <a:lnTo>
                  <a:pt x="10800" y="10364"/>
                </a:lnTo>
                <a:cubicBezTo>
                  <a:pt x="10800" y="10582"/>
                  <a:pt x="5400" y="10800"/>
                  <a:pt x="0" y="10800"/>
                </a:cubicBezTo>
                <a:cubicBezTo>
                  <a:pt x="5400" y="10800"/>
                  <a:pt x="10800" y="11018"/>
                  <a:pt x="10800" y="11236"/>
                </a:cubicBezTo>
                <a:lnTo>
                  <a:pt x="10800" y="21164"/>
                </a:lnTo>
                <a:cubicBezTo>
                  <a:pt x="10800" y="21382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cbdbca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eee08e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701" name="矩形 6"/>
          <p:cNvSpPr/>
          <p:nvPr/>
        </p:nvSpPr>
        <p:spPr>
          <a:xfrm>
            <a:off x="2050920" y="2349360"/>
            <a:ext cx="6858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</a:rPr>
              <a:t>气管、支气管：狭小、软骨软、血管多、纤毛运 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</a:rPr>
              <a:t>动差    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</a:rPr>
              <a:t>肺：弹力差、血管丰、间质盛、肺泡少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02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900000" y="1557000"/>
            <a:ext cx="82440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胸部</a:t>
            </a:r>
            <a:r>
              <a:rPr b="1" lang="en-US" sz="2800" spc="-1" strike="noStrike">
                <a:solidFill>
                  <a:srgbClr val="0000ff"/>
                </a:solidFill>
                <a:latin typeface="楷体"/>
                <a:ea typeface="楷体"/>
              </a:rPr>
              <a:t>X</a:t>
            </a:r>
            <a:r>
              <a:rPr b="1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线检查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急性发作期可有过度通气及肺纹理增重，病史长者可有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肺气肿。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26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29" dur="indefinite" restart="never" nodeType="tmRoot">
          <p:childTnLst>
            <p:seq>
              <p:cTn id="1230" dur="indefinite" nodeType="mainSeq">
                <p:childTnLst>
                  <p:par>
                    <p:cTn id="1231" nodeType="clickEffect" fill="hold">
                      <p:stCondLst>
                        <p:cond delay="indefinite"/>
                      </p:stCondLst>
                      <p:childTnLst>
                        <p:par>
                          <p:cTn id="1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35" dur="20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900000" y="1557000"/>
            <a:ext cx="82440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楷体"/>
              </a:rPr>
              <a:t>过敏原测试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常用的包括皮肤点刺试验、体外血清特异性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IgE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检测和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血清总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IgE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检测。对了解哮喘个体的病因和危险因素，以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及是否是特异性体质有重要意义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29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36" dur="indefinite" restart="never" nodeType="tmRoot">
          <p:childTnLst>
            <p:seq>
              <p:cTn id="1237" dur="indefinite" nodeType="mainSeq">
                <p:childTnLst>
                  <p:par>
                    <p:cTn id="1238" nodeType="clickEffect" fill="hold">
                      <p:stCondLst>
                        <p:cond delay="indefinite"/>
                      </p:stCondLst>
                      <p:childTnLst>
                        <p:par>
                          <p:cTn id="1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42" dur="20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539280" y="1557000"/>
            <a:ext cx="860436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楷体"/>
                <a:ea typeface="楷体"/>
              </a:rPr>
              <a:t>AHR</a:t>
            </a:r>
            <a:r>
              <a:rPr b="1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检测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肺功能正常时，可用醋甲胆碱、组胺等药物以及运动行支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气管激发试验。试验阳性可诊断存在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AHR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，是哮喘诊断依据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之一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32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43" dur="indefinite" restart="never" nodeType="tmRoot">
          <p:childTnLst>
            <p:seq>
              <p:cTn id="1244" dur="indefinite" nodeType="mainSeq">
                <p:childTnLst>
                  <p:par>
                    <p:cTn id="1245" nodeType="clickEffect" fill="hold">
                      <p:stCondLst>
                        <p:cond delay="indefinite"/>
                      </p:stCondLst>
                      <p:childTnLst>
                        <p:par>
                          <p:cTn id="1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49" dur="20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610920" y="1557000"/>
            <a:ext cx="8281800" cy="620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坚持长期、持续、规范和个体化的治疗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急性发作期治疗重点为抗炎、平喘，以便快速缓解症状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慢性持续期应坚持长期抗炎，降低气道反应性，防止气道重塑，避免危险因素和自我保健。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35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50" dur="indefinite" restart="never" nodeType="tmRoot">
          <p:childTnLst>
            <p:seq>
              <p:cTn id="1251" dur="indefinite" nodeType="mainSeq">
                <p:childTnLst>
                  <p:par>
                    <p:cTn id="1252" nodeType="clickEffect" fill="hold">
                      <p:stCondLst>
                        <p:cond delay="indefinite"/>
                      </p:stCondLst>
                      <p:childTnLst>
                        <p:par>
                          <p:cTn id="1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5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治疗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755640" y="1628640"/>
            <a:ext cx="813744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有效控制急性发作症状，并维持最轻的症状，甚至无症状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防止症状加重或反复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尽可能将肺功能维持在正常或接近正常水平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防止发生不可逆的气流受限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保持正常活动（包括运动）能力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避免药物不良反应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防止因哮喘而死亡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38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60" dur="indefinite" restart="never" nodeType="tmRoot">
          <p:childTnLst>
            <p:seq>
              <p:cTn id="1261" dur="indefinite" nodeType="mainSeq">
                <p:childTnLst>
                  <p:par>
                    <p:cTn id="1262" nodeType="clickEffect" fill="hold">
                      <p:stCondLst>
                        <p:cond delay="indefinite"/>
                      </p:stCondLst>
                      <p:childTnLst>
                        <p:par>
                          <p:cTn id="1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6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610920" y="1557000"/>
            <a:ext cx="82818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去除病因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</a:t>
            </a:r>
            <a:r>
              <a:rPr b="0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避免接触过敏原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去除各种诱发因素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积极治疗和清除感染病灶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41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70" dur="indefinite" restart="never" nodeType="tmRoot">
          <p:childTnLst>
            <p:seq>
              <p:cTn id="1271" dur="indefinite" nodeType="mainSeq">
                <p:childTnLst>
                  <p:par>
                    <p:cTn id="1272" nodeType="clickEffect" fill="hold">
                      <p:stCondLst>
                        <p:cond delay="indefinite"/>
                      </p:stCondLst>
                      <p:childTnLst>
                        <p:par>
                          <p:cTn id="1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7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610920" y="981000"/>
            <a:ext cx="82818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急性发作期治疗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缓解支气管痉挛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减轻气道黏膜水肿和炎症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减少黏液分泌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44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80" dur="indefinite" restart="never" nodeType="tmRoot">
          <p:childTnLst>
            <p:seq>
              <p:cTn id="1281" dur="indefinite" nodeType="mainSeq">
                <p:childTnLst>
                  <p:par>
                    <p:cTn id="1282" nodeType="clickEffect" fill="hold">
                      <p:stCondLst>
                        <p:cond delay="indefinite"/>
                      </p:stCondLst>
                      <p:childTnLst>
                        <p:par>
                          <p:cTn id="1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8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610920" y="1557000"/>
            <a:ext cx="784836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哮喘慢性持续期治疗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局部吸入糖皮质激素是目前控制哮喘的最有效的首选药。局部抗炎作用强，不良反应少。通常需长期规范吸入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年。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47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90" dur="indefinite" restart="never" nodeType="tmRoot">
          <p:childTnLst>
            <p:seq>
              <p:cTn id="1291" dur="indefinite" nodeType="mainSeq">
                <p:childTnLst>
                  <p:par>
                    <p:cTn id="1292" nodeType="clickEffect" fill="hold">
                      <p:stCondLst>
                        <p:cond delay="indefinite"/>
                      </p:stCondLst>
                      <p:childTnLst>
                        <p:par>
                          <p:cTn id="1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9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610920" y="1557000"/>
            <a:ext cx="82818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"/>
              </a:rPr>
              <a:t>哮喘急性发作加重的处理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注意氧疗、补液、纠正酸中毒，慎用镇静剂，评估对治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疗的反应性和既往哮喘急性发作的状态，早期静脉使用全身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性糖皮质激素，亦可静点氨茶碱，必要时行机械通气。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0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00" dur="indefinite" restart="never" nodeType="tmRoot">
          <p:childTnLst>
            <p:seq>
              <p:cTn id="1301" dur="indefinite" nodeType="mainSeq">
                <p:childTnLst>
                  <p:par>
                    <p:cTn id="1302" nodeType="clickEffect" fill="hold">
                      <p:stCondLst>
                        <p:cond delay="indefinite"/>
                      </p:stCondLst>
                      <p:childTnLst>
                        <p:par>
                          <p:cTn id="1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0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610920" y="1557000"/>
            <a:ext cx="82818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"/>
              </a:rPr>
              <a:t>预防复发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应避免接触过敏原，积极治疗和清除感染灶，去除各种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诱发因素。吸入维持量糖皮质激素，控制气道反应性炎症，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是预防复发的关键。此外，特异性免疫治疗，可使机体对过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敏原产生耐受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3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10" dur="indefinite" restart="never" nodeType="tmRoot">
          <p:childTnLst>
            <p:seq>
              <p:cTn id="1311" dur="indefinite" nodeType="mainSeq">
                <p:childTnLst>
                  <p:par>
                    <p:cTn id="1312" nodeType="clickEffect" fill="hold">
                      <p:stCondLst>
                        <p:cond delay="indefinite"/>
                      </p:stCondLst>
                      <p:childTnLst>
                        <p:par>
                          <p:cTn id="1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1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1T02:00:40Z</dcterms:created>
  <dc:creator>zhaoxin</dc:creator>
  <dc:description/>
  <dc:language>en-US</dc:language>
  <cp:lastModifiedBy>微软用户</cp:lastModifiedBy>
  <dcterms:modified xsi:type="dcterms:W3CDTF">2015-09-07T02:54:00Z</dcterms:modified>
  <cp:revision>249</cp:revision>
  <dc:subject/>
  <dc:title>ThemeGallery PowerTemplate</dc:title>
</cp:coreProperties>
</file>